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D953-C25A-41A1-AB3C-9360209F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423108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76DB-4792-4E65-9080-55E3C7F1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80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2805-E8EA-4D9D-B364-1A2710D22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39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0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39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0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B6B9-FEF3-48B6-B289-0D891C9D7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77A5-AB5A-4D34-B82F-C5352B550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EFDD-6298-4825-80CE-FE4BE5B5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644A-97C9-42FA-98E5-D3B9241D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5732-477E-4FA2-B0CF-37EC26B8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4261-2394-4C5E-92B1-65B99121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795600" y="719640"/>
            <a:ext cx="78570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E3D5-29FB-4B18-BCCA-8847E191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DC6A-303B-461E-9200-EA3250DF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C131-7B45-4AFD-8181-8BEF719C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DE09-F1AB-416D-A558-D9D47E43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6903-E3B8-48AE-9882-9EBF341A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23108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F1C9-0962-4B3F-9A5D-21ECCC9E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7B35-553F-4F7A-A621-A1C30EA1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285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231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0E1E-1263-4F93-A38C-25328075A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9E99-2F6C-4AB5-AC7D-90117BD8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5475-8BF4-4F84-9C2E-CF42954F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CFB4-1A22-4A69-A76D-9BC0D0E0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95600" y="719640"/>
            <a:ext cx="78570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2BF3-6E02-4C1B-9B43-C8CEF7D2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2B73-E555-46C4-8C86-5F01EE7C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80080" y="4231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08CB-16D3-408B-A8A9-6D2A7BA4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95600" y="597960"/>
            <a:ext cx="7857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2285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423108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27AC-E288-42CE-89C5-B3749D33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228600" y="1219320"/>
            <a:ext cx="7391520" cy="228600"/>
            <a:chOff x="228600" y="1219320"/>
            <a:chExt cx="7391520" cy="228600"/>
          </a:xfrm>
        </p:grpSpPr>
        <p:sp>
          <p:nvSpPr>
            <p:cNvPr id="4" name=""/>
            <p:cNvSpPr/>
            <p:nvPr/>
          </p:nvSpPr>
          <p:spPr>
            <a:xfrm>
              <a:off x="609480" y="1219320"/>
              <a:ext cx="7010640" cy="22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28600" y="1219320"/>
              <a:ext cx="393840" cy="228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95600" y="719640"/>
            <a:ext cx="785700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452A-E9FB-4880-90EF-3CA268154C3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57600" y="4343400"/>
            <a:ext cx="4876920" cy="228600"/>
            <a:chOff x="3657600" y="4343400"/>
            <a:chExt cx="4876920" cy="228600"/>
          </a:xfrm>
        </p:grpSpPr>
        <p:sp>
          <p:nvSpPr>
            <p:cNvPr id="51" name=""/>
            <p:cNvSpPr/>
            <p:nvPr/>
          </p:nvSpPr>
          <p:spPr>
            <a:xfrm flipH="1">
              <a:off x="3657600" y="4343400"/>
              <a:ext cx="4626000" cy="22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74240" y="4343400"/>
              <a:ext cx="260280" cy="228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F2F1-1FEE-44AB-B154-1E7B955D34A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2DpdO8RJxA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909000" y="1594440"/>
            <a:ext cx="8164080" cy="10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Transceiver Performance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What’s new in 2011?</a:t>
            </a:r>
            <a:br>
              <a:rPr sz="2800"/>
            </a:b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 Black"/>
              </a:rPr>
              <a:t>Rob Sherwoo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 Black"/>
              </a:rPr>
              <a:t>NC</a:t>
            </a:r>
            <a:r>
              <a:rPr b="1" lang="en-US" sz="4000" spc="-1" strike="noStrike">
                <a:solidFill>
                  <a:srgbClr val="993300"/>
                </a:solidFill>
                <a:latin typeface="SimSun"/>
                <a:ea typeface="SimSun"/>
              </a:rPr>
              <a:t>Ø</a:t>
            </a:r>
            <a:r>
              <a:rPr b="0" lang="en-US" sz="3600" spc="-1" strike="noStrike">
                <a:solidFill>
                  <a:srgbClr val="993300"/>
                </a:solidFill>
                <a:latin typeface="Arial Black"/>
              </a:rPr>
              <a:t>B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5105520"/>
            <a:ext cx="8229600" cy="9903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ts of options for your dollar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-16200" y="6477120"/>
            <a:ext cx="2133000" cy="416520"/>
            <a:chOff x="-16200" y="6477120"/>
            <a:chExt cx="2133000" cy="41652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42840" y="6477120"/>
              <a:ext cx="15732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-16200" y="6629400"/>
              <a:ext cx="213300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Impact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Impact"/>
                </a:rPr>
                <a:t>Sherwood Engineerin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5 &amp; 10 meters not that differ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772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ig = IC-756 Pro II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0 meter antenna = Hy-gain 105CA @ 65 fe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5 meter antenna = Hy-gain 155CA @ 70 fe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amp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5 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0 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n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4 d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amp 1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1.5 d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.5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amp 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3.0 d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1.0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ore Variables – Plan ahead if you ca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1676520"/>
            <a:ext cx="7693200" cy="43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t my QTH there are two towers near the house and four 200 to 350 feet away.  My noise level on 20 – 10 meters is vastly worse for the close-in towers, unless I turn off electronic devic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Vs (CRT or plasma), UPS &amp; family-room computer, broadband router (makes birdies), wireless Internet dish, wall warts  with switching power supplies, hand touch lamp 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00280" y="72396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ower Distance vs. local RFI (noise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772400" cy="51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795960" y="795600"/>
            <a:ext cx="800928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ise Floor Quite Consistent in Top 10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1599840"/>
            <a:ext cx="7693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Tdx-5000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135 dB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raft K3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138 dB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se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125 dBm (No preamp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ex 5000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135 dB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ion I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133 dB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ion 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135 dB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-T Eag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132 dB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ex 3000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139 dB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S-590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137 dB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com R9500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130 dB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ake R-4C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138 dBm (For comparison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228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umbers with Preamp-1  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 Black"/>
              </a:rPr>
              <a:t>What is Dynamic Range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range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B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f very strong signals to very weak signals that  the receiver can handl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t The Same 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ose-in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v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ide-Spaced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is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Close-in Dynamic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so important for CW op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is it less important for SSB operator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52680" y="152280"/>
            <a:ext cx="57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Third Order IMD to Measure Dynamic Rang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219320" y="2057400"/>
            <a:ext cx="7619760" cy="4191120"/>
            <a:chOff x="1219320" y="2057400"/>
            <a:chExt cx="7619760" cy="4191120"/>
          </a:xfrm>
        </p:grpSpPr>
        <p:sp>
          <p:nvSpPr>
            <p:cNvPr id="141" name=""/>
            <p:cNvSpPr/>
            <p:nvPr/>
          </p:nvSpPr>
          <p:spPr>
            <a:xfrm>
              <a:off x="1219320" y="6248520"/>
              <a:ext cx="761976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3124080" y="2057400"/>
              <a:ext cx="1752120" cy="4191120"/>
              <a:chOff x="3124080" y="2057400"/>
              <a:chExt cx="1752120" cy="4191120"/>
            </a:xfrm>
          </p:grpSpPr>
          <p:sp>
            <p:nvSpPr>
              <p:cNvPr id="143" name=""/>
              <p:cNvSpPr/>
              <p:nvPr/>
            </p:nvSpPr>
            <p:spPr>
              <a:xfrm>
                <a:off x="3124080" y="2057400"/>
                <a:ext cx="1752120" cy="9144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66"/>
                    </a:solidFill>
                    <a:latin typeface="Arial Black"/>
                  </a:rPr>
                  <a:t>Signal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038120" y="2971800"/>
                <a:ext cx="0" cy="327672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4038480" y="3429000"/>
              <a:ext cx="1828440" cy="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4952880" y="2057400"/>
              <a:ext cx="1752120" cy="4191120"/>
              <a:chOff x="4952880" y="2057400"/>
              <a:chExt cx="1752120" cy="4191120"/>
            </a:xfrm>
          </p:grpSpPr>
          <p:sp>
            <p:nvSpPr>
              <p:cNvPr id="147" name=""/>
              <p:cNvSpPr/>
              <p:nvPr/>
            </p:nvSpPr>
            <p:spPr>
              <a:xfrm>
                <a:off x="4952880" y="2057400"/>
                <a:ext cx="1752120" cy="9144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66"/>
                    </a:solidFill>
                    <a:latin typeface="Arial Black"/>
                  </a:rPr>
                  <a:t>Signal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866920" y="2971800"/>
                <a:ext cx="0" cy="327672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1676160" y="5181480"/>
              <a:ext cx="1066320" cy="1067040"/>
              <a:chOff x="1676160" y="5181480"/>
              <a:chExt cx="1066320" cy="1067040"/>
            </a:xfrm>
          </p:grpSpPr>
          <p:sp>
            <p:nvSpPr>
              <p:cNvPr id="150" name=""/>
              <p:cNvSpPr/>
              <p:nvPr/>
            </p:nvSpPr>
            <p:spPr>
              <a:xfrm>
                <a:off x="1676160" y="5181480"/>
                <a:ext cx="1066320" cy="6098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66"/>
                    </a:solidFill>
                    <a:latin typeface="Arial Black"/>
                  </a:rPr>
                  <a:t>IMD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209320" y="5791320"/>
                <a:ext cx="0" cy="45720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2209680" y="6019920"/>
              <a:ext cx="1828440" cy="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67280" y="6019920"/>
              <a:ext cx="1828440" cy="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7162560" y="5181480"/>
              <a:ext cx="1066320" cy="1067040"/>
              <a:chOff x="7162560" y="5181480"/>
              <a:chExt cx="1066320" cy="1067040"/>
            </a:xfrm>
          </p:grpSpPr>
          <p:sp>
            <p:nvSpPr>
              <p:cNvPr id="155" name=""/>
              <p:cNvSpPr/>
              <p:nvPr/>
            </p:nvSpPr>
            <p:spPr>
              <a:xfrm>
                <a:off x="7695720" y="5791320"/>
                <a:ext cx="0" cy="45720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162560" y="5181480"/>
                <a:ext cx="1066320" cy="6098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66"/>
                    </a:solidFill>
                    <a:latin typeface="Arial Black"/>
                  </a:rPr>
                  <a:t>IMD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58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4038480" y="38098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kHz spac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09680" y="62485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kHz spac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6248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kHz spac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24400" y="367200"/>
            <a:ext cx="7799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Wide &amp; Close Dynamic Rang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03200" y="201132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20 kHz Spac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94040" y="1981080"/>
            <a:ext cx="28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Black"/>
              </a:rPr>
              <a:t>2 kHz Spac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838080" y="2743200"/>
            <a:ext cx="4343400" cy="3342240"/>
            <a:chOff x="838080" y="2743200"/>
            <a:chExt cx="4343400" cy="3342240"/>
          </a:xfrm>
        </p:grpSpPr>
        <p:sp>
          <p:nvSpPr>
            <p:cNvPr id="167" name=""/>
            <p:cNvSpPr/>
            <p:nvPr/>
          </p:nvSpPr>
          <p:spPr>
            <a:xfrm>
              <a:off x="1140480" y="5686560"/>
              <a:ext cx="333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First IF Filter at 70.455 MHz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36840" y="3251160"/>
              <a:ext cx="220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Arial"/>
                </a:rPr>
                <a:t>IMD 20 kHz Away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90360" y="3505320"/>
              <a:ext cx="137160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61960" y="3810240"/>
              <a:ext cx="137160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90360" y="2743200"/>
              <a:ext cx="0" cy="2743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61960" y="2743200"/>
              <a:ext cx="0" cy="2743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8080" y="5486400"/>
              <a:ext cx="43434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895480" y="4200480"/>
              <a:ext cx="2133720" cy="1295640"/>
              <a:chOff x="2895480" y="4200480"/>
              <a:chExt cx="2133720" cy="1295640"/>
            </a:xfrm>
          </p:grpSpPr>
          <p:sp>
            <p:nvSpPr>
              <p:cNvPr id="175" name=""/>
              <p:cNvSpPr/>
              <p:nvPr/>
            </p:nvSpPr>
            <p:spPr>
              <a:xfrm flipV="1">
                <a:off x="2895480" y="4200480"/>
                <a:ext cx="2133720" cy="1285920"/>
              </a:xfrm>
              <a:custGeom>
                <a:avLst/>
                <a:gdLst>
                  <a:gd name="textAreaLeft" fmla="*/ 561960 w 2133720"/>
                  <a:gd name="textAreaRight" fmla="*/ 1571760 w 2133720"/>
                  <a:gd name="textAreaTop" fmla="*/ 338760 h 1285920"/>
                  <a:gd name="textAreaBottom" fmla="*/ 947160 h 128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507" y="21600"/>
                    </a:lnTo>
                    <a:lnTo>
                      <a:pt x="7093" y="21600"/>
                    </a:ln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247200" y="458172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15 kHz Wide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581280" y="4353120"/>
                <a:ext cx="7621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62160" y="5267520"/>
                <a:ext cx="0" cy="2286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9982080" y="548640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483880" y="2743200"/>
            <a:ext cx="3638880" cy="3370320"/>
            <a:chOff x="5483880" y="2743200"/>
            <a:chExt cx="3638880" cy="3370320"/>
          </a:xfrm>
        </p:grpSpPr>
        <p:sp>
          <p:nvSpPr>
            <p:cNvPr id="181" name=""/>
            <p:cNvSpPr/>
            <p:nvPr/>
          </p:nvSpPr>
          <p:spPr>
            <a:xfrm>
              <a:off x="5483880" y="5714640"/>
              <a:ext cx="333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First IF Filter at 70.455 MHz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59960" y="3232080"/>
              <a:ext cx="206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Arial"/>
                </a:rPr>
                <a:t>IMD 2 kHz Away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65760" y="5486040"/>
              <a:ext cx="25909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5994360" y="4190760"/>
              <a:ext cx="2133360" cy="1294560"/>
              <a:chOff x="5994360" y="4190760"/>
              <a:chExt cx="2133360" cy="1294560"/>
            </a:xfrm>
          </p:grpSpPr>
          <p:sp>
            <p:nvSpPr>
              <p:cNvPr id="185" name=""/>
              <p:cNvSpPr/>
              <p:nvPr/>
            </p:nvSpPr>
            <p:spPr>
              <a:xfrm>
                <a:off x="6680160" y="4419000"/>
                <a:ext cx="76176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5994360" y="4190760"/>
                <a:ext cx="2133360" cy="1285200"/>
              </a:xfrm>
              <a:custGeom>
                <a:avLst/>
                <a:gdLst>
                  <a:gd name="textAreaLeft" fmla="*/ 561960 w 2133360"/>
                  <a:gd name="textAreaRight" fmla="*/ 1571400 w 2133360"/>
                  <a:gd name="textAreaTop" fmla="*/ 338400 h 1285200"/>
                  <a:gd name="textAreaBottom" fmla="*/ 946800 h 1285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507" y="21600"/>
                    </a:lnTo>
                    <a:lnTo>
                      <a:pt x="7093" y="21600"/>
                    </a:ln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346080" y="457164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15 kHz Wide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680160" y="4343040"/>
                <a:ext cx="76176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137360" y="5257080"/>
                <a:ext cx="0" cy="2282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680160" y="5257080"/>
                <a:ext cx="0" cy="22824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6832440" y="2743200"/>
              <a:ext cx="0" cy="27428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85080" y="2743200"/>
              <a:ext cx="0" cy="27428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94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04560" y="1219320"/>
            <a:ext cx="7391160" cy="228600"/>
            <a:chOff x="304560" y="1219320"/>
            <a:chExt cx="7391160" cy="228600"/>
          </a:xfrm>
        </p:grpSpPr>
        <p:sp>
          <p:nvSpPr>
            <p:cNvPr id="197" name=""/>
            <p:cNvSpPr/>
            <p:nvPr/>
          </p:nvSpPr>
          <p:spPr>
            <a:xfrm>
              <a:off x="685440" y="1219320"/>
              <a:ext cx="7010280" cy="22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04200" y="1219320"/>
              <a:ext cx="393480" cy="228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762120" y="58831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keeps the undesired strong signals from progressing down stream to the next stag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304920"/>
            <a:ext cx="304560" cy="304560"/>
          </a:xfrm>
          <a:prstGeom prst="flowChartMerge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202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838080" y="1905120"/>
            <a:ext cx="8077320" cy="3733200"/>
            <a:chOff x="838080" y="1905120"/>
            <a:chExt cx="8077320" cy="3733200"/>
          </a:xfrm>
        </p:grpSpPr>
        <p:sp>
          <p:nvSpPr>
            <p:cNvPr id="205" name=""/>
            <p:cNvSpPr/>
            <p:nvPr/>
          </p:nvSpPr>
          <p:spPr>
            <a:xfrm>
              <a:off x="1295280" y="2506320"/>
              <a:ext cx="65530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818480" y="1950840"/>
              <a:ext cx="1096920" cy="1096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SP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Filtering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14600" y="1905120"/>
              <a:ext cx="1096920" cy="1096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SSB BW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Filt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6200000">
              <a:off x="4394880" y="1759320"/>
              <a:ext cx="1096560" cy="1479240"/>
            </a:xfrm>
            <a:prstGeom prst="flowChartMerge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14800" y="2300040"/>
              <a:ext cx="12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Amplifi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8080" y="1950840"/>
              <a:ext cx="1096920" cy="109656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Mix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72200" y="1950840"/>
              <a:ext cx="1096920" cy="109656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Mix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2209680" y="2514240"/>
              <a:ext cx="304920" cy="2604960"/>
              <a:chOff x="2209680" y="2514240"/>
              <a:chExt cx="304920" cy="2604960"/>
            </a:xfrm>
          </p:grpSpPr>
          <p:sp>
            <p:nvSpPr>
              <p:cNvPr id="213" name=""/>
              <p:cNvSpPr/>
              <p:nvPr/>
            </p:nvSpPr>
            <p:spPr>
              <a:xfrm>
                <a:off x="2209680" y="2514240"/>
                <a:ext cx="0" cy="260496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209680" y="5104800"/>
                <a:ext cx="3049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3580920" y="2514240"/>
              <a:ext cx="305280" cy="2604960"/>
              <a:chOff x="3580920" y="2514240"/>
              <a:chExt cx="305280" cy="2604960"/>
            </a:xfrm>
          </p:grpSpPr>
          <p:sp>
            <p:nvSpPr>
              <p:cNvPr id="216" name=""/>
              <p:cNvSpPr/>
              <p:nvPr/>
            </p:nvSpPr>
            <p:spPr>
              <a:xfrm>
                <a:off x="3886200" y="2514240"/>
                <a:ext cx="0" cy="260496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3580920" y="5104800"/>
                <a:ext cx="3049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2514600" y="4541760"/>
              <a:ext cx="1096920" cy="1096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CW BW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Filt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838080" y="8380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ghest performance with a bandwidth appropriate filter right up front after the first mix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has changed in last 8 years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38080" y="1676520"/>
            <a:ext cx="7693200" cy="43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n-Tec started the change in 2003 with the Orion, the first radio to drop “up-conversion” and go back to a low first IF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raft followed, and now Yaesu and Kenwood in 2010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y Icom has of yet not offered a “down-conversion” ra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the TS-590S is a big seller, will Kenwood follow on with a larger and more expensive model?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t Dayton they said Y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-152280" y="0"/>
            <a:ext cx="3200400" cy="6858000"/>
            <a:chOff x="-152280" y="0"/>
            <a:chExt cx="3200400" cy="6858000"/>
          </a:xfrm>
        </p:grpSpPr>
        <p:sp>
          <p:nvSpPr>
            <p:cNvPr id="223" name=""/>
            <p:cNvSpPr/>
            <p:nvPr/>
          </p:nvSpPr>
          <p:spPr>
            <a:xfrm>
              <a:off x="-15228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92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25" name=""/>
          <p:cNvSpPr txBox="1"/>
          <p:nvPr/>
        </p:nvSpPr>
        <p:spPr>
          <a:xfrm>
            <a:off x="3339360" y="291240"/>
            <a:ext cx="5742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When are 2 Out of Pass Band Signals a Problem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1298160"/>
            <a:ext cx="8305920" cy="23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1840" indent="-23184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you know the close-in dynamic range of a radio, at what signal level will IMD start to be a problem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31840" indent="-231840">
              <a:spcBef>
                <a:spcPts val="7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 Meter standard is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9 = 5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which is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–73 dB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31840" indent="-231840">
              <a:spcBef>
                <a:spcPts val="62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ume a typical radio:</a:t>
            </a:r>
            <a:br>
              <a:rPr sz="2400"/>
            </a:br>
            <a:r>
              <a:rPr b="0" lang="en-US" sz="1200" spc="-1" strike="noStrike" baseline="30000">
                <a:solidFill>
                  <a:srgbClr val="ff0000"/>
                </a:solidFill>
                <a:latin typeface="Wingdings 3"/>
                <a:ea typeface="Wingdings 3"/>
              </a:rPr>
              <a:t></a:t>
            </a:r>
            <a:r>
              <a:rPr b="0" lang="en-US" sz="12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00 Hz CW filte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 baseline="30000">
                <a:solidFill>
                  <a:srgbClr val="ff0000"/>
                </a:solidFill>
                <a:latin typeface="Wingdings 3"/>
                <a:ea typeface="Wingdings 3"/>
              </a:rPr>
              <a:t>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ise Floor of -128 dBm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 baseline="30000">
                <a:solidFill>
                  <a:srgbClr val="ff0000"/>
                </a:solidFill>
                <a:latin typeface="Wingdings 3"/>
                <a:ea typeface="Wingdings 3"/>
              </a:rPr>
              <a:t></a:t>
            </a:r>
            <a:r>
              <a:rPr b="0" lang="en-US" sz="12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eamp OF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3582000"/>
            <a:ext cx="8610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 Narrow"/>
              </a:rPr>
              <a:t>Dynamic Range</a:t>
            </a:r>
            <a:r>
              <a:rPr b="1" lang="en-US" sz="1800" spc="-1" strike="noStrike">
                <a:solidFill>
                  <a:srgbClr val="666699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666699"/>
                </a:solidFill>
                <a:latin typeface="Arial Narrow"/>
              </a:rPr>
              <a:t>Signal Level Causing IMD = Noise Flo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5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T-757 (56 dB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0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5 dB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T-2000 (61 dB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5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10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C-7000 (63 dB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0 dB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ypical Up-conversion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15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00 MP /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k V Field (68 / 69 dB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5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20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56 Pro II / III (75 dB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0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25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mni-VII / IC-7800 (80 dB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5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30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S-590S (88 dB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0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35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agle &amp;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lex 3K  (90 dB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5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40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rion II &amp; Flex 5000A (95  dB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18288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00 dB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9 + 45 dB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Tdx-5000, K3 (200 Hz roofing)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1828800"/>
            <a:ext cx="70866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91404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625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important in a contest or DX pile-up environmen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2625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od Dynamic Range to hear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weak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gnals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the presence of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near-by strong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gnals.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28600" indent="0">
              <a:spcBef>
                <a:spcPts val="2625"/>
              </a:spcBef>
              <a:buNone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buClr>
                <a:srgbClr val="ff0000"/>
              </a:buClr>
              <a:buSzPct val="75000"/>
              <a:buFont typeface="Arial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ou need a better receiver for CW than for SSB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28600" indent="0">
              <a:buNone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buClr>
                <a:srgbClr val="003366"/>
              </a:buClr>
              <a:buSzPct val="75000"/>
              <a:buFont typeface="Arial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 a good neighbor: i.e. Have a clean sig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28600" indent="0">
              <a:buNone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buClr>
                <a:srgbClr val="003366"/>
              </a:buClr>
              <a:buSzPct val="75000"/>
              <a:buFont typeface="Arial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ransmitters continue to be a mixed ba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03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795960" y="795600"/>
            <a:ext cx="76284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ynamic Range of Top 8 Transceive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693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Tdx-5000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01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ex 5000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6 dB (Flex users raise han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raft K3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5 dB (with 500 Hz filt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ion I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5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ion 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3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T Eag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0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ex 3000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0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S-590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8 dB (Low Freq 1</a:t>
            </a:r>
            <a:r>
              <a:rPr b="1" lang="en-US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F mod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S-590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76 dB (30, 17, 12, 10 &amp; 6 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2286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ose-in 2-kHz Test @ 500 Hz B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did the new rigs perform on CW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693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used the FTdx-5000, TS-590S and Eagle in the 160 m. ARRL, Stew Perry &amp; CQ contes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witched between the Kenwood and the Ten-Tec during the CQ conte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verload was never an issu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 could crank down the DSP filter to 100 Hz or narrowe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n most of the contest at 200 Hz B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finitely needed 50 to 100 Hz B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0242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arrow DSP Filters Come Through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69320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all three contests working CE1/K7CA required the narrowest bandwidths to copy through the pile-up, since he was not working spl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ank goodness the DXpeditions work split, so you can hear when the DX comes back to you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imagine what it is like at the DX location: total pandemonium for days!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71928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DR3 “window” is not fix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2057400"/>
            <a:ext cx="80773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dynamic range of a radio is the same with an attenuator ON or OFF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on a noisy band, attenuate the noise and all signals to make better use of the dynamic range, and reduce the chance of overlo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band noise goes from S6 to S2 by turning on the attenuator, you have los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hin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yet your radio is being stressed much less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re is no reason to have band noise reading up scale on the S meter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0242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et’s now look at the transmitte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am now testing transmitters with white noise feeding the microphone, in addition to a two-tone test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effect of IMD products (splatter) are more obvious with noise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nk of it as a 1000 tone test, more approximating real voice.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795600" y="719640"/>
            <a:ext cx="785700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White Noise Mk V Class A vs. K3 Class B @ 75 Watt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14400" y="18288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17524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6294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924680" cy="49086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 flipV="1">
            <a:off x="2666880" y="2438280"/>
            <a:ext cx="0" cy="23623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6553080" y="2438280"/>
            <a:ext cx="0" cy="23623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60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78168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-60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95880" y="3429000"/>
            <a:ext cx="45720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666520" y="3429000"/>
            <a:ext cx="2210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8195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 kHz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0" y="3200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1.5 kHz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114800" y="5486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urtesy W6X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0242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shipped since Dayton 2010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Yaesu FTdx-5000D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Kenwood TS-590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Ten-Tec Eagl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com IC-7410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com IC-9100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 Quick Note on ALC Overshoo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 of these rigs have ALC iss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5000D clips off 100% of the pea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S-590S had a 20% overshoot with FW 1.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This improved with version 1.02 @ 13%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Icoms have 3 dB overshoot @ 50 wat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ve measured as much as 6 dB at 25 wat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youtube.com/watch?v=T2DpdO8RJx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oogle search = IC-7410 ALC overshoo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esting with White Noise on Transmi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762120" y="2285640"/>
            <a:ext cx="8076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wo tests with white noise instead of two ton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e the total bandwidth bet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y linear amps need only 50 to 60 wat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C overshoot often worse at reduced pow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 at what happens to ALC spikes with the IC-7410 and IC-9100 with white noise and 50% ALC reading on the meter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795960" y="795600"/>
            <a:ext cx="80856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t to 50 Watts Key Down - White Nois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096240" cy="49528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352680" y="2286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urtesy Adam Farson – VA7OJ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715000" y="2362320"/>
            <a:ext cx="0" cy="34290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96080" y="2133720"/>
            <a:ext cx="1143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6 Div = 100 W PEP.  Rig at half power, but spikes to 100 watts every 2 or 3 se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24400" y="900720"/>
            <a:ext cx="825660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What Parameter is Most Important for a CW Contester?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438280"/>
            <a:ext cx="7693200" cy="32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0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lose-in Dynamic Range (DR3)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01"/>
              </a:spcBef>
              <a:buClr>
                <a:srgbClr val="00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We have to know the noise floor to calculate Dynamic Range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28600" y="1676520"/>
            <a:ext cx="7391520" cy="228600"/>
            <a:chOff x="228600" y="1676520"/>
            <a:chExt cx="7391520" cy="228600"/>
          </a:xfrm>
        </p:grpSpPr>
        <p:sp>
          <p:nvSpPr>
            <p:cNvPr id="111" name=""/>
            <p:cNvSpPr/>
            <p:nvPr/>
          </p:nvSpPr>
          <p:spPr>
            <a:xfrm>
              <a:off x="609480" y="1676520"/>
              <a:ext cx="7010640" cy="22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28600" y="1676520"/>
              <a:ext cx="393840" cy="22860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795960" y="795600"/>
            <a:ext cx="80856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en-Tec Eagle Class B White Nois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447920" y="1619280"/>
            <a:ext cx="6476760" cy="4995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133720" y="3733920"/>
            <a:ext cx="22096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419720" y="2971800"/>
            <a:ext cx="0" cy="23623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24080" y="54864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0 dB down 7 kHz awa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Kenwood 590S Class B White Nois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705720" cy="51325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648320" y="2895480"/>
            <a:ext cx="0" cy="2438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971800" y="40384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76720" y="54864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0 dB down 5 kHz awa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00280" y="72396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C-7600 on top, 756 Pro III on botto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219320" y="1469880"/>
            <a:ext cx="6933960" cy="5388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3352680" y="2286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600 about 10 dB worse than the Pro II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724280" y="28195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362320" y="495288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2895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8 dB Offs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371600" y="373392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8 dB difference at 6 kH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com IC-7410 Class B, White Nois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6782040" cy="49849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 flipH="1">
            <a:off x="1980720" y="3276720"/>
            <a:ext cx="16765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81080" y="3276720"/>
            <a:ext cx="0" cy="25146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52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 kHz from edg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54864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0 dB down @ 5 kH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29000" y="1522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ise source = GR 1381, 5-kHz -3 dB B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Tdx-5000D Class A – Two Levels ALC 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400800" cy="4838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90" name=""/>
          <p:cNvSpPr/>
          <p:nvPr/>
        </p:nvSpPr>
        <p:spPr>
          <a:xfrm>
            <a:off x="6095880" y="29718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 AL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52480" y="29718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C Half Sca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666880" y="3352680"/>
            <a:ext cx="0" cy="1067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62520" y="3200400"/>
            <a:ext cx="0" cy="220968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19520" y="5410080"/>
            <a:ext cx="114300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971800" y="54864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0 dB down 1.8 kHz awa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553080" y="3352680"/>
            <a:ext cx="0" cy="1981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600200" y="5029200"/>
            <a:ext cx="2286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28800" y="2590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 kHz -60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’s wrong with the FTdx-5000D?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69320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cades ago Collins clearly stated that an ALC circuit should have a SLOW time constant (decay).  ALC should just be a slow leveling circuit.  Speech processing should be done way before the PA and the ALC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issue can be fixed, either in hardware or in firmware, but I don’t know which it i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am breaks into my 20 meter QSO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838080" y="1676520"/>
            <a:ext cx="7693200" cy="43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some breaks in to comment on your signal, what is your first though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must be splattering”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th the 5000D in Class A, and NO ALC, the ham broke in to say I had the cleanest signal he had ever seen on the air with his K3 and his P3 bandscop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94788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Could Contests Be Like?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would CQ WW or ARRL DX be like if everyone had a signal this clean?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et some hams don’t want a clean sig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y want “elbow room”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goes back to Contest Ethics 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94788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 to CW sign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219320" y="1905120"/>
            <a:ext cx="67816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 have seen how width of an SSB signal &amp; its IMD products affects how close you can operate to another statio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does CW compar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close can we work to a strong adjacent CW signal?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1043280" y="51012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What is the Bandwidth of CW Signal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693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On channel signal = S9 + 40 dB (-33 dBm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eceiver = K3, 400 Hz 8-pole roofing + 400 Hz DSP Fil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ransmitter = Omni-VII with adjustable rise ti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Undesired signal 700 Hz away, continuous “dits” at 30 wp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ise time of Omni-VII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trength of CW sidebands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ignal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9 + 40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33 dBm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7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83 dBm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50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4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6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88 dB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5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6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88 dB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6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5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93 dBm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22  dB 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7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4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99 dB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8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4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99 dB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9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4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99 dB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0 msec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3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105 dBm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2 dB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96080" y="4038480"/>
            <a:ext cx="0" cy="18288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10000" y="657360"/>
            <a:ext cx="7828200" cy="6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What is Noise Floor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61760" y="2514240"/>
            <a:ext cx="8305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nsitivity is a familiar number, normally applies to SSB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Sensitivity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= 10 dB Signal + Noise / Noise (10 dB S+N/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Noise Floor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= 3 dB Signal + Noise / Noise  (3 dB S+N/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ise floor can be measured a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y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lter bandwidth, CW or SSB, for example, and is bandwidth depende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gue normally only publishes noise floor for a CW bandwidth, typically 500 Hz CW filt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1600200"/>
            <a:ext cx="830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153280" y="2971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15328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895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5012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795600" y="719640"/>
            <a:ext cx="785700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pectrum of CW Signal on HP 3585A Analyzer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14400" y="1560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ise Time 10 msec, “dits” at 30 WPM, Bandwidth -70 dB = +/- 450 Hz = 900 H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7848360" cy="43434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4343400" y="571500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95600" y="719640"/>
            <a:ext cx="785700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pectrum of CW Signal on HP 3585A Analyzer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14400" y="1560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ise Time 3 msec, “dits” at 30 WPM, Bandwidth -70 dB = +/- 750 Hz = 1500 Hz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8001000" cy="42670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3886200" y="563868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795600" y="719640"/>
            <a:ext cx="785700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pectrum of CW Signal on HP 3585A Analyzer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00200" y="1676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arison of 3 msec vs 10 msec rise tim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848720" cy="46483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 flipV="1">
            <a:off x="5715000" y="4876560"/>
            <a:ext cx="152280" cy="1447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324480" y="4876920"/>
            <a:ext cx="15264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867280" y="48769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095880" y="5410080"/>
            <a:ext cx="0" cy="762120"/>
          </a:xfrm>
          <a:prstGeom prst="line">
            <a:avLst/>
          </a:prstGeom>
          <a:ln w="572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705720" y="441972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20 dB dif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ding edge of “dit”  3 &amp; 10 mse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3810240" cy="49528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4724280" y="1676520"/>
            <a:ext cx="4191120" cy="4724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047960" y="2114640"/>
            <a:ext cx="7199640" cy="49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On SSB you want DR3 = 70 dB, or more.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On CW you want DR3 = 80 dB, or more.   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This is most economically accomplished with low IF (5 to 9 MHz) selectable crysta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oofing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filters.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It is much more difficult to deliver 80 dB or higher DR3 with the more common Up-Conversion design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Transmitted bandwidth of the interfering signal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ften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the limit, not the receiver. 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7621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ust the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990720" y="1523880"/>
            <a:ext cx="769608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0 dB or better @ 2 kHz with a 500 Hz bandwidth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001 Ten-Tec Omni-VI+: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80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003 Icom IC-7800: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80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003 Ten-Tec Orion I: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93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005 Ten-Tec Orion II: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95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007 Flex 5000A: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96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007 Ten-Tec Omni-VII: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80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008 Elecraft K3: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95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010 Kenwood TS-590S: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88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010 Ten-Tec Eagle: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90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010 FTdx-5000: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01 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907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dynamic range is possible and needed for CW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990720" y="1447920"/>
            <a:ext cx="7543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lecraft K2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80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llins R-390A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79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Kenwood TS-850S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77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com Pro II / Pro III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75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llins 75S-3B/C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72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Kenwood TS-870S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69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aesu FT-2000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63 dB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is is shockingly ba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com IC-7000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63 dB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aesu FT-One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63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aesu FT-101E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59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rake R-4C Stock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58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aesu FT-757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56 d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aesu VR-5000: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49 dB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orst radio I have ever tested 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990720" y="7621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radios for comparison, 2 kHz dynamic range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795960" y="795600"/>
            <a:ext cx="816192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range ARRL Dynamic Range Numbe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y modern transceivers are phase noise limited, particularly close-in at 2 kHz.  The League wanted be able to measure the IMD buried in the phase noise, and came up with a new method a few years ago using a spectrum analyzer with a 3-Hz filter.  (HP 3585A) It can also be done with a 10-Hz filter and averaging of the signal over time. (HP 8568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e may also use an FFT analyzer with long-term averaging to suppress the noise, and make the measurement more quick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C-7600 with 3-Hz Spectrum Analyze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6248160" cy="5002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010280" y="1523880"/>
            <a:ext cx="21337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hase noise limited dynamic range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8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B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at 2 kHz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easured with a 3-Hz filter on the analyzer, the dynamic range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7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B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t 2 kHz!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200400" y="2438280"/>
            <a:ext cx="0" cy="6098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3809880" y="2438280"/>
            <a:ext cx="0" cy="6098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962520" y="22096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D @ -130 dB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62120" y="220968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erence tone -130 dB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62320" y="411480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0 Hz DSP Filter Passb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795600" y="795600"/>
            <a:ext cx="83142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the New ARRL DR3 Method Mea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693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ld method, IMD or noise increased 3 dB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D tone at noise floor =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was DR3, either IMD or noise limit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th the new method, noise increased 10 dB, and by ear you hea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thing but noi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is this the same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less you work a contest using a 3-Hz CW filter, the new League dynamic range measurements are significantly greater than on-air usage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radio is phase noise limit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5410080" y="2209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5029200" y="3962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4977" fill="hold"/>
                                        <p:tgtEl>
                                          <p:spTgt spid="3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5035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ise Floor – Rarely an Issue on HF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7692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 20 meters and below, atmospheric, galactic and man-made noise predominat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 15 meters, in a quiet rural location, the receiver is still rarely the limit.  Exampl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C0B, 5 element yagi at 70 feet, 270 feet of 7/8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ch hardline, antenna pointed in the quietest direction (30 degrees) at 4 PM on 2/28/2010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eiver sensitivity, no preamp, 2.4 kHz = 0.5 u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eiver sensitivity, w/ preamp, 2.4 kHz = 0.2 u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eiver noise floor, w/ preamp, 500 Hz = -135 dB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C-7800 ARRL Old vs. New Method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838080" y="1599840"/>
            <a:ext cx="7693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4/18/2006  IC-7800 test data, old meth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 kHz, Phase Noise Limited @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0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 kHz, Phase Noise Limited @ 67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/6/2007 IC-7800 test data, new meth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 kHz, dynamic range =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6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 measurement reported at 1 kH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C-7410 Dynamic Range Dat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ac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al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00 kHz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07 dB some n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0 kHz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02 dB noise limi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5 kHz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0   dB noise limi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 kHz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78   dB noise limi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 kHz ARRL*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9   dB noise igno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* (Using spectrum analyzer and narrow BW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94788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ignal is buried in phase noise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69320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n, N0QO &amp; I measured the 7410 3 way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500 Hz CW bandwidth, only no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3 Hz bandwidth, you can “see” the sign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10 Hz BW with long term averaging to reduce the noise, you can “see” the sign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no case could the actual signals be heard coming from the speak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795600" y="795600"/>
            <a:ext cx="83142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lex 3000 Old Method vs. 3 Hz Fil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838080" y="1676520"/>
            <a:ext cx="7693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ex 3000 with Old Method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R3 = 90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is completely phase noise limit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ex 3000 wit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 Hz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pectrum Analyzer method measures a dynamic range betwee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5 and 99 d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depending on the spac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Orion II and the K3 perform better, but now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ou cannot tell that by the QST number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hase noise should not be ignored !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838080" y="1752480"/>
            <a:ext cx="7693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problem is the League is now measuring dynamic range in such a way to eliminate phase noise from the equation.  Phase noise (reciprocal mixing in a QST review) up till now got but a single line of dat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Elecraft K3 at 99 dB is not the same as a Flex 3000 at 99 dB, yet you would never know that from a QST review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795960" y="795600"/>
            <a:ext cx="80856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League and Sherwood Compromis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837720" y="2285640"/>
            <a:ext cx="8077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September 2011 the League agreed to add emphasis to their reciprocal-mixing data.  Hopefully this will appear in QST by year en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League’s reciprocal-mixing (RM) values should equal their pre-2007 noise-limited data, and my published noise-limited data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C-7410 RM limited dynamic range = 78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rwood noise-limited DR3 = 78 d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94788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estion: How good is good enough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14400" y="1828800"/>
            <a:ext cx="8001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gh Dynamic Range Receiver (DR3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imum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0 dB for SSB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amp;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0 dB for C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f the “real” DR3 &gt; 90 dB,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r receiver is fine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fferences of a few dB a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significa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nsitivity 15 meters and below, preamp ON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.2 uV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ise floor 15 meters and below, preamp ON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135 dB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eiver testing needs to approximate the real world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57360" cy="162864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2222280" y="2084400"/>
            <a:ext cx="576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herwood Engineering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3886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</a:rPr>
              <a:t>http://www.sherwood-engineering.c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38080" y="51814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</a:rPr>
              <a:t>http://www.NC0B.c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J-155CA yagi in the previous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1496880"/>
            <a:ext cx="8001000" cy="5132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71920" y="795600"/>
            <a:ext cx="785736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 simple test with only a analog mete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69320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st hams don’t own a calibrated signal generator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o you evaluate your receive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asure the noise gain when you connect your antenna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 you need is an analog meter with a dB scale, hooked up to your speak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5600" y="795600"/>
            <a:ext cx="785700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easure the noise gai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1676520"/>
            <a:ext cx="7693200" cy="43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onnect your antenna and set the volume so your dB meter reads -10 dB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Put a dummy load on the rig, but it will likely  make no difference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nect the antenna and see how many dB the noise goes up when tuned to a dead spot on the ban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this with Preamp OFF and 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71920" y="795600"/>
            <a:ext cx="7857360" cy="4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did I measure on 15 meters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1676520"/>
            <a:ext cx="7693200" cy="43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ig = Icom IC-78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th preamp OFF, noise gain = 3.1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th preamp ON, noise gain = 8.3 d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This was in the quietest direction – i.e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 Skip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!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th the preamp ON, now rotate your yagi 360 degrees and note the difference in nois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the direction there is skip, the noise will be high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easily be a 10 dB difference in band noise vs. direction.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7T16:48:08Z</dcterms:created>
  <dc:creator>Chris &amp; Terri Cantrell</dc:creator>
  <dc:description/>
  <dc:language>en-US</dc:language>
  <cp:lastModifiedBy>Rob</cp:lastModifiedBy>
  <dcterms:modified xsi:type="dcterms:W3CDTF">2011-10-16T21:29:30Z</dcterms:modified>
  <cp:revision>350</cp:revision>
  <dc:subject/>
  <dc:title>Radios Used in a Contest Environ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