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5EF-8AC1-476D-9CAB-E15A93A0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826-FBBD-4ED6-9634-52694B43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3FC-D375-4DD8-9E64-5336504B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4CF-6A42-4C6A-8461-181C8835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7AA5-9E96-4D12-BE88-842917AF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6FA4-D0F0-4367-98D0-D420CC3E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A99E-37C5-4BA7-A500-398093B0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55E7-F63A-4711-8CE9-6CE9B6F0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7D17-261A-46FC-BC50-6ED4F29E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09AE-C673-41B0-9DB9-BFCF0BB2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5F74-6D19-46B5-9DE5-1738C29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0F5-056E-4F27-821D-EBF8C41B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CC0F-B719-4B27-A11D-85BB2037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8EBE-A3F1-44B0-A153-BBBBDA37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16FE-C4B6-45A2-8E90-F7BE28A1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2AF7-AACD-48E4-B511-427B038A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3FBE-346A-4586-A3D9-A388C86D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F3C-3CFF-43CF-9E11-9FE40CD5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B4B-3A77-4117-B62F-889F1A4E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89A-F6E5-42C1-A1E2-D9EC518E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F64-8DCE-4F3E-801B-724157CE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05E-2155-42C6-82E9-D4A883BA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209-F31B-47F4-85E0-ED3125C3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37D-A2A1-47AE-981C-0C35F71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219320"/>
            <a:ext cx="7391520" cy="228600"/>
            <a:chOff x="228600" y="1219320"/>
            <a:chExt cx="7391520" cy="228600"/>
          </a:xfrm>
        </p:grpSpPr>
        <p:sp>
          <p:nvSpPr>
            <p:cNvPr id="4" name=""/>
            <p:cNvSpPr/>
            <p:nvPr/>
          </p:nvSpPr>
          <p:spPr>
            <a:xfrm>
              <a:off x="609480" y="12193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2193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9449-8901-411E-A1FD-C6F3BD45A3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57600" y="4343400"/>
            <a:ext cx="4876920" cy="228600"/>
            <a:chOff x="3657600" y="4343400"/>
            <a:chExt cx="4876920" cy="228600"/>
          </a:xfrm>
        </p:grpSpPr>
        <p:sp>
          <p:nvSpPr>
            <p:cNvPr id="51" name=""/>
            <p:cNvSpPr/>
            <p:nvPr/>
          </p:nvSpPr>
          <p:spPr>
            <a:xfrm flipH="1">
              <a:off x="3657600" y="4343400"/>
              <a:ext cx="4626000" cy="22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4240" y="4343400"/>
              <a:ext cx="2602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5D99-AEFD-41D9-B217-438FC0ADF3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2DpdO8RJxA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09000" y="1594440"/>
            <a:ext cx="8164080" cy="10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ransceiver Performance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at’s new in 2011?</a:t>
            </a:r>
            <a:br>
              <a:rPr sz="28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Rob Sherwo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NC</a:t>
            </a:r>
            <a:r>
              <a:rPr b="1" lang="en-US" sz="4000" spc="-1" strike="noStrike">
                <a:solidFill>
                  <a:srgbClr val="993300"/>
                </a:solidFill>
                <a:latin typeface="SimSun"/>
                <a:ea typeface="SimSun"/>
              </a:rPr>
              <a:t>Ø</a:t>
            </a: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105520"/>
            <a:ext cx="8229600" cy="9903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options for your dollar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16200" y="6477120"/>
            <a:ext cx="2133000" cy="416520"/>
            <a:chOff x="-16200" y="6477120"/>
            <a:chExt cx="2133000" cy="4165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840" y="6477120"/>
              <a:ext cx="1573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-16200" y="6629400"/>
              <a:ext cx="21330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Impact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Sherwood Engineerin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5 &amp; 10 meters not that differ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g = IC-756 Pro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 meter antenna = Hy-gain 105CA @ 65 f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 meter antenna = Hy-gain 155CA @ 70 f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 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 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 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1.5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.5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 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3.0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1.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e Variables – Plan ahead if you c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my QTH there are two towers near the house and four 200 to 350 feet away.  My noise level on 20 – 10 meters is vastly worse for the close-in towers, unless I turn off electronic dev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Vs (CRT or plasma), UPS &amp; family-room computer, broadband router (makes birdies), wireless Internet dish, wall warts  with switching power supplies, hand touch lamp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00280" y="72396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wer Distance vs. local RFI (noise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2400" cy="51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95960" y="795600"/>
            <a:ext cx="800928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ise Floor Quite Consistent in Top 1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693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Tdx-5000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K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8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e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25 dBm (No pream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5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3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-T Eag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2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9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7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m R95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0 dB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ke R-4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8 dBm (For comparison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228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umbers with Preamp-1  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What is Dynamic Rang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range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very strong signals to very weak signals that  the receiver can han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v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-Spaced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lose-in Dynam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 important for CW op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it less important for SSB operato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52680" y="1522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Third Order IMD to Measure Dynamic Ran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2057400"/>
            <a:ext cx="7619760" cy="4191120"/>
            <a:chOff x="1219320" y="2057400"/>
            <a:chExt cx="7619760" cy="4191120"/>
          </a:xfrm>
        </p:grpSpPr>
        <p:sp>
          <p:nvSpPr>
            <p:cNvPr id="141" name=""/>
            <p:cNvSpPr/>
            <p:nvPr/>
          </p:nvSpPr>
          <p:spPr>
            <a:xfrm>
              <a:off x="1219320" y="6248520"/>
              <a:ext cx="76197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124080" y="2057400"/>
              <a:ext cx="1752120" cy="4191120"/>
              <a:chOff x="3124080" y="2057400"/>
              <a:chExt cx="1752120" cy="4191120"/>
            </a:xfrm>
          </p:grpSpPr>
          <p:sp>
            <p:nvSpPr>
              <p:cNvPr id="143" name=""/>
              <p:cNvSpPr/>
              <p:nvPr/>
            </p:nvSpPr>
            <p:spPr>
              <a:xfrm>
                <a:off x="31240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381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038480" y="342900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952880" y="2057400"/>
              <a:ext cx="1752120" cy="4191120"/>
              <a:chOff x="4952880" y="2057400"/>
              <a:chExt cx="1752120" cy="4191120"/>
            </a:xfrm>
          </p:grpSpPr>
          <p:sp>
            <p:nvSpPr>
              <p:cNvPr id="147" name=""/>
              <p:cNvSpPr/>
              <p:nvPr/>
            </p:nvSpPr>
            <p:spPr>
              <a:xfrm>
                <a:off x="49528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69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676160" y="5181480"/>
              <a:ext cx="1066320" cy="1067040"/>
              <a:chOff x="1676160" y="5181480"/>
              <a:chExt cx="1066320" cy="1067040"/>
            </a:xfrm>
          </p:grpSpPr>
          <p:sp>
            <p:nvSpPr>
              <p:cNvPr id="150" name=""/>
              <p:cNvSpPr/>
              <p:nvPr/>
            </p:nvSpPr>
            <p:spPr>
              <a:xfrm>
                <a:off x="16761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093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2096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162560" y="5181480"/>
              <a:ext cx="1066320" cy="1067040"/>
              <a:chOff x="7162560" y="5181480"/>
              <a:chExt cx="1066320" cy="1067040"/>
            </a:xfrm>
          </p:grpSpPr>
          <p:sp>
            <p:nvSpPr>
              <p:cNvPr id="155" name=""/>
              <p:cNvSpPr/>
              <p:nvPr/>
            </p:nvSpPr>
            <p:spPr>
              <a:xfrm>
                <a:off x="76957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1625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038480" y="3809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4400" y="367200"/>
            <a:ext cx="7799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ide &amp; Close Dynamic Ran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3200" y="20113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0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94040" y="198108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38080" y="2743200"/>
            <a:ext cx="4343400" cy="3342240"/>
            <a:chOff x="838080" y="2743200"/>
            <a:chExt cx="4343400" cy="3342240"/>
          </a:xfrm>
        </p:grpSpPr>
        <p:sp>
          <p:nvSpPr>
            <p:cNvPr id="167" name=""/>
            <p:cNvSpPr/>
            <p:nvPr/>
          </p:nvSpPr>
          <p:spPr>
            <a:xfrm>
              <a:off x="1140480" y="568656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6840" y="325116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0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0360" y="350532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1960" y="381024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3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19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080" y="5486400"/>
              <a:ext cx="4343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95480" y="4200480"/>
              <a:ext cx="2133720" cy="1295640"/>
              <a:chOff x="2895480" y="4200480"/>
              <a:chExt cx="2133720" cy="129564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2895480" y="4200480"/>
                <a:ext cx="2133720" cy="1285920"/>
              </a:xfrm>
              <a:custGeom>
                <a:avLst/>
                <a:gdLst>
                  <a:gd name="textAreaLeft" fmla="*/ 561960 w 2133720"/>
                  <a:gd name="textAreaRight" fmla="*/ 1571760 w 2133720"/>
                  <a:gd name="textAreaTop" fmla="*/ 338760 h 1285920"/>
                  <a:gd name="textAreaBottom" fmla="*/ 947160 h 12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47200" y="45817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81280" y="4353120"/>
                <a:ext cx="762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62160" y="526752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9982080" y="54864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83880" y="2743200"/>
            <a:ext cx="3638880" cy="3370320"/>
            <a:chOff x="5483880" y="2743200"/>
            <a:chExt cx="3638880" cy="3370320"/>
          </a:xfrm>
        </p:grpSpPr>
        <p:sp>
          <p:nvSpPr>
            <p:cNvPr id="181" name=""/>
            <p:cNvSpPr/>
            <p:nvPr/>
          </p:nvSpPr>
          <p:spPr>
            <a:xfrm>
              <a:off x="5483880" y="571464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9960" y="32320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65760" y="5486040"/>
              <a:ext cx="2590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994360" y="4190760"/>
              <a:ext cx="2133360" cy="1294560"/>
              <a:chOff x="5994360" y="4190760"/>
              <a:chExt cx="2133360" cy="1294560"/>
            </a:xfrm>
          </p:grpSpPr>
          <p:sp>
            <p:nvSpPr>
              <p:cNvPr id="185" name=""/>
              <p:cNvSpPr/>
              <p:nvPr/>
            </p:nvSpPr>
            <p:spPr>
              <a:xfrm>
                <a:off x="6680160" y="441900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994360" y="4190760"/>
                <a:ext cx="2133360" cy="1285200"/>
              </a:xfrm>
              <a:custGeom>
                <a:avLst/>
                <a:gdLst>
                  <a:gd name="textAreaLeft" fmla="*/ 561960 w 2133360"/>
                  <a:gd name="textAreaRight" fmla="*/ 1571400 w 2133360"/>
                  <a:gd name="textAreaTop" fmla="*/ 338400 h 1285200"/>
                  <a:gd name="textAreaBottom" fmla="*/ 946800 h 128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46080" y="457164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80160" y="434304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37360" y="5257080"/>
                <a:ext cx="0" cy="228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80160" y="52570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83244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8508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04560" y="1219320"/>
            <a:ext cx="7391160" cy="228600"/>
            <a:chOff x="304560" y="1219320"/>
            <a:chExt cx="7391160" cy="228600"/>
          </a:xfrm>
        </p:grpSpPr>
        <p:sp>
          <p:nvSpPr>
            <p:cNvPr id="197" name=""/>
            <p:cNvSpPr/>
            <p:nvPr/>
          </p:nvSpPr>
          <p:spPr>
            <a:xfrm>
              <a:off x="685440" y="1219320"/>
              <a:ext cx="701028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04200" y="1219320"/>
              <a:ext cx="3934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5883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keeps the undesired strong signals from progressing down stream to the next st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04920"/>
            <a:ext cx="304560" cy="304560"/>
          </a:xfrm>
          <a:prstGeom prst="flowChartMerg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02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838080" y="1905120"/>
            <a:ext cx="8077320" cy="3733200"/>
            <a:chOff x="838080" y="1905120"/>
            <a:chExt cx="8077320" cy="3733200"/>
          </a:xfrm>
        </p:grpSpPr>
        <p:sp>
          <p:nvSpPr>
            <p:cNvPr id="205" name=""/>
            <p:cNvSpPr/>
            <p:nvPr/>
          </p:nvSpPr>
          <p:spPr>
            <a:xfrm>
              <a:off x="1295280" y="2506320"/>
              <a:ext cx="65530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18480" y="195084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S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14600" y="190512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SSB BW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4394880" y="1759320"/>
              <a:ext cx="1096560" cy="1479240"/>
            </a:xfrm>
            <a:prstGeom prst="flowChartMerg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14800" y="2300040"/>
              <a:ext cx="12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mplifi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7220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209680" y="2514240"/>
              <a:ext cx="304920" cy="2604960"/>
              <a:chOff x="2209680" y="2514240"/>
              <a:chExt cx="304920" cy="2604960"/>
            </a:xfrm>
          </p:grpSpPr>
          <p:sp>
            <p:nvSpPr>
              <p:cNvPr id="213" name=""/>
              <p:cNvSpPr/>
              <p:nvPr/>
            </p:nvSpPr>
            <p:spPr>
              <a:xfrm>
                <a:off x="220968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0968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580920" y="2514240"/>
              <a:ext cx="305280" cy="2604960"/>
              <a:chOff x="3580920" y="2514240"/>
              <a:chExt cx="305280" cy="26049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8620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358092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514600" y="454176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W BW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838080" y="838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st performance with a bandwidth appropriate filter right up front after the first mix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has changed in last 8 year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-Tec started the change in 2003 with the Orion, the first radio to drop “up-conversion” and go back to a low first IF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followed, and now Yaesu and Kenwood in 2010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Icom has of yet not offered a “down-conversion”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S-590S is a big seller, will Kenwood follow on with a larger and more expensive model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 Dayton they said Y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-152280" y="0"/>
            <a:ext cx="3200400" cy="6858000"/>
            <a:chOff x="-152280" y="0"/>
            <a:chExt cx="3200400" cy="6858000"/>
          </a:xfrm>
        </p:grpSpPr>
        <p:sp>
          <p:nvSpPr>
            <p:cNvPr id="223" name=""/>
            <p:cNvSpPr/>
            <p:nvPr/>
          </p:nvSpPr>
          <p:spPr>
            <a:xfrm>
              <a:off x="-15228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92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3339360" y="291240"/>
            <a:ext cx="5742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en are 2 Out of Pass Band Signals a Probl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298160"/>
            <a:ext cx="830592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know the close-in dynamic range of a radio, at what signal level will IMD start to be a proble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 Meter standard is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9 = 5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which is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73 dB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e a typical radio:</a:t>
            </a:r>
            <a:br>
              <a:rPr sz="2400"/>
            </a:b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0 Hz CW filt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ise Floor of -128 dB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amp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582000"/>
            <a:ext cx="8610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Dynamic Range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Signal Level Causing IMD = Noise Flo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757 (56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5 dB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2000 (61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C-7000 (63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 dB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ypical Up-convers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 MP /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k V Field (68 / 69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56 Pro II / III (75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mni-VII / IC-7800 (80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S-590S (88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gle &amp;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lex 3K  (90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ion II &amp; Flex 5000A (95 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dx-5000, K3 (200 Hz roofing)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828800"/>
            <a:ext cx="7086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9140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625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important in a contest or DX pile-up environm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625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Dynamic Range to hear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eak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als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presence of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ear-by strong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als.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spcBef>
                <a:spcPts val="2625"/>
              </a:spcBef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ff0000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need a better receiver for CW than for SS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a good neighbor: i.e. Have a clean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nsmitters continue to be a mixed ba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95960" y="795600"/>
            <a:ext cx="76284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ynamic Range of Top 8 Transceiv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Tdx-5000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1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5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6 dB (Flex users raise han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K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5 dB (with 500 Hz filt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3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T Eag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8 dB (Low Freq 1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F mo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6 dB (30, 17, 12, 10 &amp; 6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228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2-kHz Test @ 500 Hz B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did the new rigs perform on C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used the FTdx-5000, TS-590S and Eagle in the 160 m. ARRL, Stew Perry &amp; CQ contes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witched between the Kenwood and the Ten-Tec during the CQ cont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load was never an iss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could crank down the DSP filter to 100 Hz or narrow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 most of the contest at 200 Hz B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tely needed 50 to 100 Hz B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arrow DSP Filters Come Throug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ll three contests working CE1/K7CA required the narrowest bandwidths to copy through the pile-up, since he was not working spl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goodness the DXpeditions work split, so you can hear when the DX comes back to you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imagine what it is like at the DX location: total pandemonium for days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192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DR3 “window” is not fix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057400"/>
            <a:ext cx="80773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ynamic range of a radio is the same with an attenuator ON or OFF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on a noisy band, attenuate the noise and all signals to make better use of the dynamic range, and reduce the chance of overlo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band noise goes from S6 to S2 by turning on the attenuator, you have l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yet your radio is being stressed much les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is no reason to have band noise reading up scale on the S mete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t’s now look at the transmitt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am now testing transmitters with white noise feeding the microphone, in addition to a two-tone test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ffect of IMD products (splatter) are more obvious with noise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of it as a 1000 tone test, more approximating real voice.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White Noise Mk V Class A vs. K3 Class B @ 75 Wat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18288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7524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924680" cy="4908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V="1">
            <a:off x="2666880" y="243828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553080" y="243828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6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6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3429000"/>
            <a:ext cx="4572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66520" y="3429000"/>
            <a:ext cx="221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k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.5 k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5486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urtesy W6X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shipped since Dayton 2010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Yaesu FTdx-5000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Kenwood TS-590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en-Tec Eagl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com IC-741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com IC-910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Quick Note on ALC Overshoo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 of these rigs have ALC iss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5000D clips off 100% of the pea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 had a 20% overshoot with FW 1.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This improved with version 1.02 @ 13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coms have 3 dB overshoot @ 50 wat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e measured as much as 6 dB at 25 wat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T2DpdO8RJx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gle search = IC-7410 ALC overshoo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sting with White Noise on Transmi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762120" y="2285640"/>
            <a:ext cx="8076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tests with white noise instead of two to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the total bandwidth b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linear amps need only 50 to 60 wat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C overshoot often worse at reduced p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what happens to ALC spikes with the IC-7410 and IC-9100 with white noise and 50% ALC reading on the mete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95960" y="795600"/>
            <a:ext cx="80856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t to 50 Watts Key Down -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952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352680" y="228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urtesy Adam Farson – VA7O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2362320"/>
            <a:ext cx="0" cy="3429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96080" y="2133720"/>
            <a:ext cx="1143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Div = 100 W PEP.  Rig at half power, but spikes to 100 watts every 2 or 3 se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4400" y="900720"/>
            <a:ext cx="825660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Parameter is Most Important for a CW Contester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ose-in Dynamic Range (DR3)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We have to know the noise floor to calculate Dynamic Range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8600" y="1676520"/>
            <a:ext cx="7391520" cy="228600"/>
            <a:chOff x="228600" y="1676520"/>
            <a:chExt cx="7391520" cy="228600"/>
          </a:xfrm>
        </p:grpSpPr>
        <p:sp>
          <p:nvSpPr>
            <p:cNvPr id="111" name=""/>
            <p:cNvSpPr/>
            <p:nvPr/>
          </p:nvSpPr>
          <p:spPr>
            <a:xfrm>
              <a:off x="609480" y="16765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28600" y="16765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795960" y="795600"/>
            <a:ext cx="80856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-Tec Eagle Class B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447920" y="1619280"/>
            <a:ext cx="6476760" cy="4995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133720" y="373392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19720" y="2971800"/>
            <a:ext cx="0" cy="2362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5486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 dB down 7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enwood 590S Class B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705720" cy="51325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648320" y="2895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40384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6720" y="54864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 dB down 5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00280" y="72396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600 on top, 756 Pro III on botto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219320" y="1469880"/>
            <a:ext cx="6933960" cy="5388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35268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600 about 10 dB worse than the Pro II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724280" y="2819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9528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2895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 dB Offs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3733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 dB difference at 6 k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om IC-7410 Class B,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4984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flipH="1">
            <a:off x="1980720" y="32767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32767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 kHz from ed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5486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0 dB down @ 5 kH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152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ise source = GR 1381, 5-kHz -3 dB B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Tdx-5000D Class A – Two Levels ALC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00800" cy="483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90" name=""/>
          <p:cNvSpPr/>
          <p:nvPr/>
        </p:nvSpPr>
        <p:spPr>
          <a:xfrm>
            <a:off x="6095880" y="2971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AL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2971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C Half Sc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3352680"/>
            <a:ext cx="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3200400"/>
            <a:ext cx="0" cy="22096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1008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0 dB down 1.8 kHz aw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3352680"/>
            <a:ext cx="0" cy="198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5029200"/>
            <a:ext cx="2286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kHz -6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’s wrong with the FTdx-5000D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ades ago Collins clearly stated that an ALC circuit should have a SLOW time constant (decay).  ALC should just be a slow leveling circuit.  Speech processing should be done way before the PA and the ALC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sue can be fixed, either in hardware or in firmware, but I don’t know which it 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am breaks into my 20 meter QS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some breaks in to comment on your signal, what is your first though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must be splattering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e 5000D in Class A, and NO ALC, the ham broke in to say I had the cleanest signal he had ever seen on the air with his K3 and his P3 bandsco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Could Contests Be Like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ould CQ WW or ARRL DX be like if everyone had a signal this clean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et some hams don’t want a clean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want “elbow room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goes back to Contest Ethics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 to CW sign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1905120"/>
            <a:ext cx="6781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have seen how width of an SSB signal &amp; its IMD products affects how close you can operate to another st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CW compa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close can we work to a strong adjacent CW signal?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043280" y="5101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is the Bandwidth of CW Signal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n channel signal = S9 + 40 dB (-33 dBm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ceiver = K3, 400 Hz 8-pole roofing + 400 Hz DSP Fil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mitter = Omni-VII with adjustable ris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desired signal 700 Hz away, continuous “dits” at 30 wp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ise time of Omni-VI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rength of CW sideband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gnal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9 + 40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3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7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5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6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5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2  dB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7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0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105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 dB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403848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0000" y="65736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is Noise Floo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is a familiar number, normally applies to SS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Sensitivity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10 dB Signal + Noise / Noise (10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Noise Floor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3 dB Signal + Noise / Noise  (3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can be measured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ter bandwidth, CW or SSB, for example, and is bandwidth depend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gue normally only publishes noise floor for a CW bandwidth, typically 500 Hz CW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600200"/>
            <a:ext cx="830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532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5328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9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01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10 msec, “dits” at 30 WPM, Bandwidth -70 dB = +/- 450 Hz = 900 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848360" cy="4343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343400" y="57150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3 msec, “dits” at 30 WPM, Bandwidth -70 dB = +/- 750 Hz = 1500 Hz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886200" y="56386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ison of 3 msec vs 10 msec rise ti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 flipV="1">
            <a:off x="5715000" y="4876560"/>
            <a:ext cx="15228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24480" y="4876920"/>
            <a:ext cx="15264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48769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5410080"/>
            <a:ext cx="0" cy="76212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05720" y="44197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0 dB dif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ding edge of “dit”  3 &amp; 10 ms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810240" cy="49528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19112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47960" y="2114640"/>
            <a:ext cx="7199640" cy="49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n SSB you want DR3 = 70 dB, or more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n CW you want DR3 = 80 dB, or more.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his is most economically accomplished with low IF (5 to 9 MHz) selectable cryst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ofing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filte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t is much more difficult to deliver 80 dB or higher DR3 with the more common Up-Conversion desig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ransmitted bandwidth of the interfering signal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the limit, not the receiver.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7621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st the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90720" y="1523880"/>
            <a:ext cx="7696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 dB or better @ 2 kHz with a 500 Hz bandwid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1 Ten-Tec Omni-VI+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3 Icom IC-7800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3 Ten-Tec Orion 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3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5 Ten-Tec Orion I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7 Flex 5000A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6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7 Ten-Tec Omni-VI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8 Elecraft K3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Kenwood TS-590S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8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Ten-Tec Eagle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FTdx-5000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01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ynamic range is possible and needed for C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90720" y="1447920"/>
            <a:ext cx="7543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lecraft K2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R-390A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5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7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Pro II / Pro I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75S-3B/C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2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7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2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s is shockingly b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IC-7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On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101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rake R-4C Stock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8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757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6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VR-5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9 dB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rst radio I have ever tested 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762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radios for comparison, 2 kHz dynamic rang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795960" y="795600"/>
            <a:ext cx="816192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range ARRL Dynamic Range Numb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modern transceivers are phase noise limited, particularly close-in at 2 kHz.  The League wanted be able to measure the IMD buried in the phase noise, and came up with a new method a few years ago using a spectrum analyzer with a 3-Hz filter.  (HP 3585A) It can also be done with a 10-Hz filter and averaging of the signal over time. (HP 8568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may also use an FFT analyzer with long-term averaging to suppress the noise, and make the measurement more quick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600 with 3-Hz Spectrum Analyz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6248160" cy="5002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010280" y="1523880"/>
            <a:ext cx="2133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hase noise limited dynamic rang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8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B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at 2 kHz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asured with a 3-Hz filter on the analyzer, the dynamic rang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7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B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 2 kHz!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20040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8098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D @ -130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22096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tone -130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41148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0 Hz DSP Filter Passb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795600" y="795600"/>
            <a:ext cx="83142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New ARRL DR3 Method Me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ld method, IMD or noise increased 3 d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D tone at noise floor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was DR3, either IMD or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e new method, noise increased 10 dB, and by ear you hea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hing but noi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is this the same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less you work a contest using a 3-Hz CW filter, the new League dynamic range measurements are significantly greater than on-air usage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radio is phase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977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03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ise Floor – Rarely an Issue on H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20 meters and below, atmospheric, galactic and man-made noise predomina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15 meters, in a quiet rural location, the receiver is still rarely the limit. 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C0B, 5 element yagi at 70 feet, 270 feet of 7/8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ch hardline, antenna pointed in the quietest direction (30 degrees) at 4 PM on 2/28/20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sensitivity, no preamp, 2.4 kHz = 0.5 u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sensitivity, w/ preamp, 2.4 kHz = 0.2 u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noise floor, w/ preamp, 500 Hz = -135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800 ARRL Old vs. New Metho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693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/18/2006  IC-7800 test data, old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, Phase Noise Limited @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kHz, Phase Noise Limited @ 67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/6/2007 IC-7800 test data, new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, dynamic range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6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measurement reported at 1 kH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410 Dynamic Range Dat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 k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7 dB some n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 k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2 dB noise limi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 k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0   dB noise limi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8   dB noise limi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 ARRL*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9   dB noise igno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(Using spectrum analyzer and narrow B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gnal is buried in phase noise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n, N0QO &amp; I measured the 7410 3 wa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500 Hz CW bandwidth, only n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3 Hz bandwidth, you can “see” the sig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10 Hz BW with long term averaging to reduce the noise, you can “see” the sig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no case could the actual signals be heard coming from the spea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95600" y="795600"/>
            <a:ext cx="83142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ex 3000 Old Method vs. 3 Hz Fil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 with Old Method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R3 = 9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is completely phase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pectrum Analyzer method measures a dynamic range betwee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5 and 99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depending on the spac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on II and the K3 perform better, but now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cannot tell that by the QST numb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hase noise should not be ignored 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693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oblem is the League is now measuring dynamic range in such a way to eliminate phase noise from the equation.  Phase noise (reciprocal mixing in a QST review) up till now got but a single line of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lecraft K3 at 99 dB is not the same as a Flex 3000 at 99 dB, yet you would never know that from a QST review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95960" y="795600"/>
            <a:ext cx="80856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League and Sherwood Comprom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837720" y="228564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eptember 2011 the League agreed to add emphasis to their reciprocal-mixing data.  Hopefully this will appear in QST by year e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eague’s reciprocal-mixing (RM) values should equal their pre-2007 noise-limited data, and my published noise-limited data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-7410 RM limited dynamic range = 78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rwood noise-limited DR3 = 78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: How good is good enough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182880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Dynamic Range Receiver (DR3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u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 dB for SSB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 dB for C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the “real” DR3 &gt; 90 dB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receiver is fine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ces of a few dB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ignifica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15 meters and below, preamp ON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2 uV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15 meters and below, preamp ON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135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testing needs to approximate the real worl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57360" cy="16286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222280" y="2084400"/>
            <a:ext cx="576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herwood Engineering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38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sherwood-engineering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51814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NC0B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J-155CA yagi in the previous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496880"/>
            <a:ext cx="8001000" cy="513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simple test with only a analog me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hams don’t own a calibrated signal generato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evaluate your receiv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sure the noise gain when you connect your antenna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you need is an analog meter with a dB scale, hooked up to your speak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asure the noise ga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nnect your antenna and set the volume so your dB meter reads -10 dB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ut a dummy load on the rig, but it will likely  make no difference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 the antenna and see how many dB the noise goes up when tuned to a dead spot on the b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this with Preamp OFF and 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id I measure on 15 meter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g = Icom IC-78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preamp OFF, noise gain = 3.1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preamp ON, noise gain = 8.3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This was in the quietest direction – i.e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Ski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!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the preamp ON, now rotate your yagi 360 degrees and note the difference in noi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direction there is skip, the noise will be high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easily be a 10 dB difference in band noise vs. direction.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6:48:08Z</dcterms:created>
  <dc:creator>Chris &amp; Terri Cantrell</dc:creator>
  <dc:description/>
  <dc:language>en-US</dc:language>
  <cp:lastModifiedBy>Rob</cp:lastModifiedBy>
  <dcterms:modified xsi:type="dcterms:W3CDTF">2011-10-16T21:29:30Z</dcterms:modified>
  <cp:revision>350</cp:revision>
  <dc:subject/>
  <dc:title>Radios Used in a Contest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