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E2C-0701-42CE-8672-4C26ACED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01A-27C7-4F3B-B148-A0AF62FE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D3EF-D44C-491F-9C98-E8FBE521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AD7-F228-4326-B85D-0711B1AE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7F03-6B5F-4F9B-8729-06A7B93E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35BE-A28F-49A5-B180-335DA19A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4A25-588D-42F4-B728-6D32D4F1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39FA-BCD2-4CE0-B669-5A06B04C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29D9-88F1-4520-8867-85B41C34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95600" y="719640"/>
            <a:ext cx="7857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13F0-508C-4ED9-85EA-15E505CB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F60D-C4AC-4932-9606-077AD0C0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4F6-C35A-4C12-B957-9876714B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1771-B8F7-4D6B-90F9-89ADE58B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BD9D-A611-4818-9DE4-DACAE14C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AF5E-3C1D-4F6B-98EA-03518FD6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A107-DE91-4358-A3B2-1EC1E2D5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D4CD-C9C3-41E1-A881-B9BFFF7D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768-60CB-4ECD-9B66-ADA0F659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B2C-9949-4684-A355-BB55CF07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6B2-3ED0-478F-AA16-A1C76F7B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95600" y="719640"/>
            <a:ext cx="7857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F6CE-6644-4F75-AE38-F4995D9A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31B-814F-47E3-875F-44E4B93C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7B99-CFA9-4E51-A4E8-FF688273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EF1-7928-4178-91AA-CD848ECA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28600" y="1219320"/>
            <a:ext cx="7391520" cy="228600"/>
            <a:chOff x="228600" y="1219320"/>
            <a:chExt cx="7391520" cy="228600"/>
          </a:xfrm>
        </p:grpSpPr>
        <p:sp>
          <p:nvSpPr>
            <p:cNvPr id="4" name=""/>
            <p:cNvSpPr/>
            <p:nvPr/>
          </p:nvSpPr>
          <p:spPr>
            <a:xfrm>
              <a:off x="609480" y="121932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28600" y="121932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E81E-646E-423F-BDB6-B11AD27F4A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57600" y="4343400"/>
            <a:ext cx="4876920" cy="228600"/>
            <a:chOff x="3657600" y="4343400"/>
            <a:chExt cx="4876920" cy="228600"/>
          </a:xfrm>
        </p:grpSpPr>
        <p:sp>
          <p:nvSpPr>
            <p:cNvPr id="51" name=""/>
            <p:cNvSpPr/>
            <p:nvPr/>
          </p:nvSpPr>
          <p:spPr>
            <a:xfrm flipH="1">
              <a:off x="3657600" y="4343400"/>
              <a:ext cx="4626000" cy="22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74240" y="4343400"/>
              <a:ext cx="26028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6A13-ADA0-4D89-98DF-37A00205BE7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09000" y="1594440"/>
            <a:ext cx="8164080" cy="10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ransceiver Performance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What’s new in the last year?</a:t>
            </a:r>
            <a:br>
              <a:rPr sz="2800"/>
            </a:b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Rob Sherwoo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NC</a:t>
            </a:r>
            <a:r>
              <a:rPr b="1" lang="en-US" sz="4000" spc="-1" strike="noStrike">
                <a:solidFill>
                  <a:srgbClr val="993300"/>
                </a:solidFill>
                <a:latin typeface="SimSun"/>
                <a:ea typeface="SimSun"/>
              </a:rPr>
              <a:t>Ø</a:t>
            </a: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105520"/>
            <a:ext cx="8229600" cy="9903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options for your dollar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-16200" y="6477120"/>
            <a:ext cx="2133000" cy="416520"/>
            <a:chOff x="-16200" y="6477120"/>
            <a:chExt cx="2133000" cy="4165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2840" y="6477120"/>
              <a:ext cx="15732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-16200" y="6629400"/>
              <a:ext cx="21330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Impact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Impact"/>
                </a:rPr>
                <a:t>Sherwood Engineerin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5 &amp; 10 meters not that differ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g = IC-756 Pro I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 meter antenna = Hy-gain 105CA @ 65 fe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5 meter antenna = Hy-gain 155CA @ 70 fe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am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5 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 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 d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amp 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1.5 d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.5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amp 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3.0 d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1.0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ore Variables – Plan ahead if you c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my QTH there are two towers near the house and four 200 to 350 feet away.  My noise level on 20 – 10 meters is vastly worse for the close-in towers, unless I turn off electronic devi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Vs (CRT or plasma), UPS &amp; family-room computer, broadband router (makes birdies), wireless Internet dish, wall warts  with switching power supplies, hand touch lamp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100160" y="795600"/>
            <a:ext cx="755244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ower Distance vs. local RFI (noise)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8153640" cy="510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95960" y="795600"/>
            <a:ext cx="800928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ise Floor Quite Consistent in Top 10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1599840"/>
            <a:ext cx="7693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Tdx-5000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5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raft K3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8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e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25 dBm (No pream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500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5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on I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3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on 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5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-T Eag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2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300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9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S-590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7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com R950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0 dB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ke R-4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8 dBm (For comparison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228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umbers with Preamp-1  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 Black"/>
              </a:rPr>
              <a:t>What is Dynamic Range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range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very strong signals to very weak signals that  the receiver can hand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 The Same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ose-i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v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de-Spaced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lose-in Dynami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o important for CW op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it less important for SSB operato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52680" y="1522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Third Order IMD to Measure Dynamic Rang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2057400"/>
            <a:ext cx="7619760" cy="4191120"/>
            <a:chOff x="1219320" y="2057400"/>
            <a:chExt cx="7619760" cy="4191120"/>
          </a:xfrm>
        </p:grpSpPr>
        <p:sp>
          <p:nvSpPr>
            <p:cNvPr id="141" name=""/>
            <p:cNvSpPr/>
            <p:nvPr/>
          </p:nvSpPr>
          <p:spPr>
            <a:xfrm>
              <a:off x="1219320" y="6248520"/>
              <a:ext cx="76197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3124080" y="2057400"/>
              <a:ext cx="1752120" cy="4191120"/>
              <a:chOff x="3124080" y="2057400"/>
              <a:chExt cx="1752120" cy="4191120"/>
            </a:xfrm>
          </p:grpSpPr>
          <p:sp>
            <p:nvSpPr>
              <p:cNvPr id="143" name=""/>
              <p:cNvSpPr/>
              <p:nvPr/>
            </p:nvSpPr>
            <p:spPr>
              <a:xfrm>
                <a:off x="3124080" y="2057400"/>
                <a:ext cx="1752120" cy="9144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Signal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38120" y="2971800"/>
                <a:ext cx="0" cy="32767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4038480" y="342900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4952880" y="2057400"/>
              <a:ext cx="1752120" cy="4191120"/>
              <a:chOff x="4952880" y="2057400"/>
              <a:chExt cx="1752120" cy="4191120"/>
            </a:xfrm>
          </p:grpSpPr>
          <p:sp>
            <p:nvSpPr>
              <p:cNvPr id="147" name=""/>
              <p:cNvSpPr/>
              <p:nvPr/>
            </p:nvSpPr>
            <p:spPr>
              <a:xfrm>
                <a:off x="4952880" y="2057400"/>
                <a:ext cx="1752120" cy="9144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Signal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866920" y="2971800"/>
                <a:ext cx="0" cy="32767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1676160" y="5181480"/>
              <a:ext cx="1066320" cy="1067040"/>
              <a:chOff x="1676160" y="5181480"/>
              <a:chExt cx="1066320" cy="1067040"/>
            </a:xfrm>
          </p:grpSpPr>
          <p:sp>
            <p:nvSpPr>
              <p:cNvPr id="150" name=""/>
              <p:cNvSpPr/>
              <p:nvPr/>
            </p:nvSpPr>
            <p:spPr>
              <a:xfrm>
                <a:off x="1676160" y="5181480"/>
                <a:ext cx="1066320" cy="609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IMD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09320" y="5791320"/>
                <a:ext cx="0" cy="4572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209680" y="601992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67280" y="601992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7162560" y="5181480"/>
              <a:ext cx="1066320" cy="1067040"/>
              <a:chOff x="7162560" y="5181480"/>
              <a:chExt cx="1066320" cy="1067040"/>
            </a:xfrm>
          </p:grpSpPr>
          <p:sp>
            <p:nvSpPr>
              <p:cNvPr id="155" name=""/>
              <p:cNvSpPr/>
              <p:nvPr/>
            </p:nvSpPr>
            <p:spPr>
              <a:xfrm>
                <a:off x="7695720" y="5791320"/>
                <a:ext cx="0" cy="4572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162560" y="5181480"/>
                <a:ext cx="1066320" cy="609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IMD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038480" y="3809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kHz spac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0968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kHz spac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kHz spac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4400" y="367200"/>
            <a:ext cx="7799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ide &amp; Close Dynamic Rang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3200" y="201132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20 kHz Spac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94040" y="198108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2 kHz Spac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38080" y="2743200"/>
            <a:ext cx="4343400" cy="3342240"/>
            <a:chOff x="838080" y="2743200"/>
            <a:chExt cx="4343400" cy="3342240"/>
          </a:xfrm>
        </p:grpSpPr>
        <p:sp>
          <p:nvSpPr>
            <p:cNvPr id="167" name=""/>
            <p:cNvSpPr/>
            <p:nvPr/>
          </p:nvSpPr>
          <p:spPr>
            <a:xfrm>
              <a:off x="1140480" y="5686560"/>
              <a:ext cx="33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First IF Filter at 70.455 MHz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36840" y="3251160"/>
              <a:ext cx="22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IMD 20 kHz Awa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90360" y="3505320"/>
              <a:ext cx="13716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61960" y="3810240"/>
              <a:ext cx="13716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360" y="2743200"/>
              <a:ext cx="0" cy="2743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1960" y="2743200"/>
              <a:ext cx="0" cy="2743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8080" y="5486400"/>
              <a:ext cx="43434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895480" y="4200480"/>
              <a:ext cx="2133720" cy="1295640"/>
              <a:chOff x="2895480" y="4200480"/>
              <a:chExt cx="2133720" cy="1295640"/>
            </a:xfrm>
          </p:grpSpPr>
          <p:sp>
            <p:nvSpPr>
              <p:cNvPr id="175" name=""/>
              <p:cNvSpPr/>
              <p:nvPr/>
            </p:nvSpPr>
            <p:spPr>
              <a:xfrm flipV="1">
                <a:off x="2895480" y="4200480"/>
                <a:ext cx="2133720" cy="1285920"/>
              </a:xfrm>
              <a:custGeom>
                <a:avLst/>
                <a:gdLst>
                  <a:gd name="textAreaLeft" fmla="*/ 561960 w 2133720"/>
                  <a:gd name="textAreaRight" fmla="*/ 1571760 w 2133720"/>
                  <a:gd name="textAreaTop" fmla="*/ 338760 h 1285920"/>
                  <a:gd name="textAreaBottom" fmla="*/ 947160 h 128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507" y="21600"/>
                    </a:lnTo>
                    <a:lnTo>
                      <a:pt x="7093" y="21600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47200" y="458172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15 kHz Wid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81280" y="4353120"/>
                <a:ext cx="762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62160" y="5267520"/>
                <a:ext cx="0" cy="228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9982080" y="54864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83880" y="2743200"/>
            <a:ext cx="3638880" cy="3370320"/>
            <a:chOff x="5483880" y="2743200"/>
            <a:chExt cx="3638880" cy="3370320"/>
          </a:xfrm>
        </p:grpSpPr>
        <p:sp>
          <p:nvSpPr>
            <p:cNvPr id="181" name=""/>
            <p:cNvSpPr/>
            <p:nvPr/>
          </p:nvSpPr>
          <p:spPr>
            <a:xfrm>
              <a:off x="5483880" y="5714640"/>
              <a:ext cx="33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First IF Filter at 70.455 MHz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59960" y="3232080"/>
              <a:ext cx="206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IMD 2 kHz Awa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65760" y="5486040"/>
              <a:ext cx="2590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994360" y="4190760"/>
              <a:ext cx="2133360" cy="1294560"/>
              <a:chOff x="5994360" y="4190760"/>
              <a:chExt cx="2133360" cy="1294560"/>
            </a:xfrm>
          </p:grpSpPr>
          <p:sp>
            <p:nvSpPr>
              <p:cNvPr id="185" name=""/>
              <p:cNvSpPr/>
              <p:nvPr/>
            </p:nvSpPr>
            <p:spPr>
              <a:xfrm>
                <a:off x="6680160" y="4419000"/>
                <a:ext cx="76176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5994360" y="4190760"/>
                <a:ext cx="2133360" cy="1285200"/>
              </a:xfrm>
              <a:custGeom>
                <a:avLst/>
                <a:gdLst>
                  <a:gd name="textAreaLeft" fmla="*/ 561960 w 2133360"/>
                  <a:gd name="textAreaRight" fmla="*/ 1571400 w 2133360"/>
                  <a:gd name="textAreaTop" fmla="*/ 338400 h 1285200"/>
                  <a:gd name="textAreaBottom" fmla="*/ 946800 h 128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507" y="21600"/>
                    </a:lnTo>
                    <a:lnTo>
                      <a:pt x="7093" y="21600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346080" y="457164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15 kHz Wid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680160" y="4343040"/>
                <a:ext cx="76176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137360" y="5257080"/>
                <a:ext cx="0" cy="228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680160" y="5257080"/>
                <a:ext cx="0" cy="228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6832440" y="2743200"/>
              <a:ext cx="0" cy="2742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85080" y="2743200"/>
              <a:ext cx="0" cy="2742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94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04560" y="1219320"/>
            <a:ext cx="7391160" cy="228600"/>
            <a:chOff x="304560" y="1219320"/>
            <a:chExt cx="7391160" cy="228600"/>
          </a:xfrm>
        </p:grpSpPr>
        <p:sp>
          <p:nvSpPr>
            <p:cNvPr id="197" name=""/>
            <p:cNvSpPr/>
            <p:nvPr/>
          </p:nvSpPr>
          <p:spPr>
            <a:xfrm>
              <a:off x="685440" y="1219320"/>
              <a:ext cx="701028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04200" y="1219320"/>
              <a:ext cx="39348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62120" y="58831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keeps the undesired strong signals from progressing down stream to the next stag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04920"/>
            <a:ext cx="304560" cy="304560"/>
          </a:xfrm>
          <a:prstGeom prst="flowChartMerg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202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838080" y="1905120"/>
            <a:ext cx="8077320" cy="3733200"/>
            <a:chOff x="838080" y="1905120"/>
            <a:chExt cx="8077320" cy="3733200"/>
          </a:xfrm>
        </p:grpSpPr>
        <p:sp>
          <p:nvSpPr>
            <p:cNvPr id="205" name=""/>
            <p:cNvSpPr/>
            <p:nvPr/>
          </p:nvSpPr>
          <p:spPr>
            <a:xfrm>
              <a:off x="1295280" y="2506320"/>
              <a:ext cx="65530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18480" y="195084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SP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ing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14600" y="190512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SSB BW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4394880" y="1759320"/>
              <a:ext cx="1096560" cy="1479240"/>
            </a:xfrm>
            <a:prstGeom prst="flowChartMerg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14800" y="2300040"/>
              <a:ext cx="12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Amplifi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8080" y="1950840"/>
              <a:ext cx="1096920" cy="109656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Mix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72200" y="1950840"/>
              <a:ext cx="1096920" cy="109656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Mix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209680" y="2514240"/>
              <a:ext cx="304920" cy="2604960"/>
              <a:chOff x="2209680" y="2514240"/>
              <a:chExt cx="304920" cy="2604960"/>
            </a:xfrm>
          </p:grpSpPr>
          <p:sp>
            <p:nvSpPr>
              <p:cNvPr id="213" name=""/>
              <p:cNvSpPr/>
              <p:nvPr/>
            </p:nvSpPr>
            <p:spPr>
              <a:xfrm>
                <a:off x="2209680" y="2514240"/>
                <a:ext cx="0" cy="26049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09680" y="5104800"/>
                <a:ext cx="3049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3580920" y="2514240"/>
              <a:ext cx="305280" cy="2604960"/>
              <a:chOff x="3580920" y="2514240"/>
              <a:chExt cx="305280" cy="2604960"/>
            </a:xfrm>
          </p:grpSpPr>
          <p:sp>
            <p:nvSpPr>
              <p:cNvPr id="216" name=""/>
              <p:cNvSpPr/>
              <p:nvPr/>
            </p:nvSpPr>
            <p:spPr>
              <a:xfrm>
                <a:off x="3886200" y="2514240"/>
                <a:ext cx="0" cy="26049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3580920" y="5104800"/>
                <a:ext cx="3049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2514600" y="454176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W BW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838080" y="8380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est performance with a bandwidth appropriate filter right up front after the first mix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has changed in last 8 year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-Tec started the change in 2003 with the Orion, the first radio to drop “up-conversion” and go back to a low first IF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raft followed, and now Yaesu and Kenwood in 2010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Icom has of yet not offered a “down-conversion”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TS-590S is a big seller, will Kenwood follow on with a larger and more expensive model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-152280" y="0"/>
            <a:ext cx="3200400" cy="6858000"/>
            <a:chOff x="-152280" y="0"/>
            <a:chExt cx="3200400" cy="6858000"/>
          </a:xfrm>
        </p:grpSpPr>
        <p:sp>
          <p:nvSpPr>
            <p:cNvPr id="223" name=""/>
            <p:cNvSpPr/>
            <p:nvPr/>
          </p:nvSpPr>
          <p:spPr>
            <a:xfrm>
              <a:off x="-15228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92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3339360" y="291240"/>
            <a:ext cx="5742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en are 2 Out of Pass Band Signals a Problem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298160"/>
            <a:ext cx="830592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 indent="-231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 know the close-in dynamic range of a radio, at what signal level will IMD start to be a problem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31840" indent="-231840"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 Meter standard is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9 = 5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which is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73 dB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31840" indent="-231840"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ume a typical radio:</a:t>
            </a:r>
            <a:br>
              <a:rPr sz="2400"/>
            </a:b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00 Hz CW filt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ise Floor of -128 dB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amp O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3582000"/>
            <a:ext cx="8610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Dynamic Range</a:t>
            </a: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Signal Level Causing IMD = Noise Flo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T-757 (56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5 dB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T-2000 (61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1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C-7000 (63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0 dB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ypical Up-conversio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1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0 MP /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k V Field (68 / 69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2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56 Pro II / III (75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2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mni-VII / IC-7800 (80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3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S-590S (88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3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agle &amp;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lex 3K  (90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4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rion II &amp; Flex 5000A (95 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4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Tdx-5000, K3 (200 Hz roofing)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1828800"/>
            <a:ext cx="7086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91404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625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important in a contest environmen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2625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od Dynamic Range to hear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weak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gnals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presence of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near-by strong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gnals.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spcBef>
                <a:spcPts val="2625"/>
              </a:spcBef>
              <a:buNone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ff0000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ou need a better receiver for CW than for SS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buNone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a good neighbor: i.e. Have a clean sig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buNone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ransmitters continue to be a mixed ba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03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95960" y="795600"/>
            <a:ext cx="76284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ynamic Range of Top 8 Transceiv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Tdx-5000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1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500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6 dB (Flex users raise han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raft K3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5 dB (with 500 Hz filt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on I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5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on 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3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T Eag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0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300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0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S-590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8 dB (Low Freq 1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F mod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S-590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6 dB (30, 17, 12, 10 &amp; 6 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2286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ose-in 2-kHz Test @ 500 Hz B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did the new rigs perform on CW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used the FTdx-5000, TS-590S and Eagle in the 160 m. ARRL, Stew Perry &amp; CQ contes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witched between the Kenwood and the Ten-Tec during the CQ cont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load was never an issu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could crank down the DSP filter to 100 Hz or narrow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n most of the contest at 200 Hz B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itely needed 50 to 100 Hz B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0242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arrow DSP Filters Come Through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ll three contests working CE1/K7CA required the narrowest bandwidths to copy through the pile-up, since he was not working spl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nk goodness the DXpeditions work split, so you can hear when the DX comes back to you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imagine what it is like at the DX location: total pandemonium for days!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7192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DR3 “window” is not fix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2057400"/>
            <a:ext cx="80773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dynamic range of a radio is the same with an attenuator ON or OFF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on a noisy band, attenuate the noise and all signals to make better use of the dynamic range, and reduce the chance of overlo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band noise goes from S6 to S2 by turning on the attenuator, you have lo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h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yet your radio is being stressed much less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0242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et’s now look at the transmitt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am now testing transmitters with white noise feeding the microphone, in addition to a two-tone test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ffect of IMD products (splatter) are more obvious with noise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k of it as a 1000 tone test, more approximating real voice.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White Noise Mk V Class A vs. K3 Class B @ 75 Watt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18288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7524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6294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924680" cy="4908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 flipV="1">
            <a:off x="2666880" y="2438280"/>
            <a:ext cx="0" cy="23623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553080" y="2438280"/>
            <a:ext cx="0" cy="23623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60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-60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3429000"/>
            <a:ext cx="4572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66520" y="3429000"/>
            <a:ext cx="221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kH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320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1.5 kH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14800" y="5486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urtesy W6X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0242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shipped since Dayton 2010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Yaesu FTdx-5000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Kenwood TS-590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en-Tec Eagl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795960" y="795600"/>
            <a:ext cx="80856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en-Tec Eagle Class B White Noi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447920" y="1619280"/>
            <a:ext cx="6476760" cy="4995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133720" y="373392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19720" y="2971800"/>
            <a:ext cx="0" cy="2362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54864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0 dB down 7 kHz a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enwood 590S Class B White Noi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705720" cy="51325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4648320" y="28954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40384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54864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0 dB down 5 kHz a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800280" y="72396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-7600 on top, 756 Pro III on botto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219320" y="1469880"/>
            <a:ext cx="6933960" cy="53881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352680" y="228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600 about 10 dB worse than the Pro II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724280" y="2819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62320" y="49528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2895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 dB Offs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373392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 dB difference at 6 k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24400" y="900720"/>
            <a:ext cx="825660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at Parameter is Most Important for a CW Contester?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7693200" cy="32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ose-in Dynamic Range (DR3)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We have to know the noise floor to calculate Dynamic Range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8600" y="1676520"/>
            <a:ext cx="7391520" cy="228600"/>
            <a:chOff x="228600" y="1676520"/>
            <a:chExt cx="7391520" cy="228600"/>
          </a:xfrm>
        </p:grpSpPr>
        <p:sp>
          <p:nvSpPr>
            <p:cNvPr id="111" name=""/>
            <p:cNvSpPr/>
            <p:nvPr/>
          </p:nvSpPr>
          <p:spPr>
            <a:xfrm>
              <a:off x="609480" y="167652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28600" y="167652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Tdx-5000D Class A – Two Levels ALC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400800" cy="4838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74" name=""/>
          <p:cNvSpPr/>
          <p:nvPr/>
        </p:nvSpPr>
        <p:spPr>
          <a:xfrm>
            <a:off x="6095880" y="2971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 AL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52480" y="29718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C Half Sc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352680"/>
            <a:ext cx="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3200400"/>
            <a:ext cx="0" cy="22096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19520" y="5410080"/>
            <a:ext cx="11430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5486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0 dB down 2 kHz awa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3352680"/>
            <a:ext cx="0" cy="198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’s wrong with the FTdx-5000D?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ades ago Collins clearly stated that an ALC circuit should have a SLOW time constant (decay).  ALC should just be a slow leveling circuit.  Speech processing should be done way before the PA and the ALC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sue can be fixed, either in hardware or in firmware, but I don’t know which it i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am breaks into my 20 meter QS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some breaks in to comment on your signal, what is your first though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must be splattering”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the 5000D in Class A, and NO ALC, the ham broke in to say I had the cleanest signal he had ever seen on the air with his K3 and his P3 bandscop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478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Could Contests Be Like?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would CQ WW or ARRL DX be like if everyone had a signal this clean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et some hams don’t want a clean sig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want “elbow room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goes back to Contest Ethics from this mornin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9478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 to CW sign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19320" y="1905120"/>
            <a:ext cx="6781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have seen how width of an SSB signal &amp; its IMD products affects how close you can operate to another sta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does CW compa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close can we work to a strong adjacent CW signal?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043280" y="51012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hat is the Bandwidth of CW Signal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n channel signal = S9 + 40 dB (-33 dBm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ceiver = K3, 400 Hz 8-pole roofing + 400 Hz DSP Fil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ansmitter = Omni-VII with adjustable rise 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Undesired signal 700 Hz away, continuous “dits” at 30 wp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ise time of Omni-VII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trength of CW sideband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ignal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9 + 40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33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7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83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50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4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6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88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5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6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88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6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5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3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2  dB 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7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9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9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9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0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3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105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2 dB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96080" y="4038480"/>
            <a:ext cx="0" cy="18288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pectrum of CW Signal on HP 3585A Analyze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560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se Time 10 msec, “dits” at 30 WPM, Bandwidth -70 dB = +/- 450 Hz = 900 H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848360" cy="43434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4343400" y="57150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pectrum of CW Signal on HP 3585A Analyze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1560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se Time 3 msec, “dits” at 30 WPM, Bandwidth -70 dB = +/- 750 Hz = 1500 Hz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8001000" cy="4267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886200" y="56386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pectrum of CW Signal on HP 3585A Analyze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1676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arison of 3 msec vs 10 msec rise tim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848720" cy="46483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 flipV="1">
            <a:off x="5715000" y="4876560"/>
            <a:ext cx="152280" cy="144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324480" y="4876920"/>
            <a:ext cx="15264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867280" y="48769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95880" y="5410080"/>
            <a:ext cx="0" cy="762120"/>
          </a:xfrm>
          <a:prstGeom prst="line">
            <a:avLst/>
          </a:prstGeom>
          <a:ln w="572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441972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20 dB dif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ding edge of “dit”  3 &amp; 10 mse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810240" cy="49528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4191120" cy="472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10000" y="657360"/>
            <a:ext cx="7828200" cy="6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at is Noise Floor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2514240"/>
            <a:ext cx="8305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nsitivity is a familiar number, normally applies to SSB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Sensitivity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= 10 dB Signal + Noise / Noise (10 dB S+N/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Noise Floor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= 3 dB Signal + Noise / Noise  (3 dB S+N/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ise floor can be measured 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lter bandwidth, CW or SSB, for example, and is bandwidth depend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gue normally only publishes noise floor for a CW bandwidth, typically 500 Hz CW fil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600200"/>
            <a:ext cx="830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1532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15328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95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5012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047960" y="2114640"/>
            <a:ext cx="7199640" cy="49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On SSB you want DR3 = 70 dB, or more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On CW you want DR3 = 80 dB, or more.  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his is most economically accomplished with low IF (5 to 9 MHz) selectable crysta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oofing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filters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It is much more difficult to deliver 80 dB or higher DR3 with the more common Up-Conversion desig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ransmitted bandwidth of the interfering signal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the limit, not the receiver. 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7621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ust the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90720" y="1523880"/>
            <a:ext cx="76960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0 dB or better @ 2 kHz with a 500 Hz bandwid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1 Ten-Tec Omni-VI+: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0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3 Icom IC-7800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0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3 Ten-Tec Orion I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3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5 Ten-Tec Orion II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5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7 Flex 5000A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6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7 Ten-Tec Omni-VII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0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8 Elecraft K3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5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10 Kenwood TS-590S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8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10 Ten-Tec Eagle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0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10 FTdx-5000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01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907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dynamic range is possible and needed for C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90720" y="1447920"/>
            <a:ext cx="7543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lecraft K2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80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llins R-390A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9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Kenwood TS-850S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7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com Pro II / Pro II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5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llins 75S-3B/C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2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Kenwood TS-870S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9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2000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3 dB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s is shockingly b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com IC-7000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3 dB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One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3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101E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9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rake R-4C Stock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8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757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6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VR-5000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49 dB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orst radio I have ever tested 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762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radios for comparison, 2 kHz dynamic range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gus ARRL Dynamic Range Numb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y modern transceivers are phase noise limited, particularly close-in at 2 kHz.  The League wanted be able to measure the IMD buried in the phase noise, and came up with a new method a few years ago using a spectrum analyzer with a 3-Hz filter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-7600 with 3-Hz Spectrum Analyz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6248160" cy="5002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010280" y="1523880"/>
            <a:ext cx="21337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hase noise limited dynamic range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8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B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at 2 kHz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asured with a 3-Hz filter on the analyzer, the dynamic range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7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B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t 2 kHz!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200400" y="24382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809880" y="24382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62520" y="2209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D @ -130 dB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2120" y="22096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e tone -130 dB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62320" y="41148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0 Hz DSP Filter Passb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795600" y="795600"/>
            <a:ext cx="83142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the New ARRL DR3 Method Mea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ld method, IMD or noise increased 3 d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D tone at noise floor 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was DR3, either IMD or noise limi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the new method, noise increased 10 dB, and by ear you hea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hing but noi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is this the same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less you work a contest using a 3-Hz CW filter, the new League dynamic range measurements are meaningless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radio is phase noise limi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54100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5029200" y="4191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4977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5035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-7800 ARRL Old vs. New Method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838080" y="1599840"/>
            <a:ext cx="7693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/18/2006  IC-7800 test data, old meth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kHz, Phase Noise Limited @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0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kHz, Phase Noise Limited @ 67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/6/2007 IC-7800 test data, new meth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kHz, dynamic range =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6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measurement reported at 1 kH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95600" y="795600"/>
            <a:ext cx="83142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ex 3000 Old Method vs. 3 Hz Fil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3000 with Old Method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R3 = 9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is completely phase noise limi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3000 wit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 Hz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pectrum Analyzer method measures a dynamic range betwee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5 and 99 d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depending on the spac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rion II and the K3 perform better, but now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ou cannot tell that by the QST numbe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hase noise should not be ignored 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1752480"/>
            <a:ext cx="7693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problem is the League is now measuring dynamic range in such a way to eliminate phase noise from the equation.  Phase noise (reciprocal mixing in a QST review) gets but a single line of da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Elecraft K3 at 99 dB is not the same as a Flex 3000 at 99 dB, yet you would never know that from a QST review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9478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estion: How good is good enough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1828800"/>
            <a:ext cx="8001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Dynamic Range Receiver (DR3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u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0 dB for SSB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amp;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0 dB for C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the “real” DR3 &gt; 90 dB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r receiver is fine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fferences of a few dB a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ignifica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nsitivity 15 meters and below, preamp ON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.2 uV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ise floor 15 meters and below, preamp ON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135 dB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iver testing needs to approximate the real worl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ise Floor – Rarely an Issue on HF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692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20 meters and below, atmospheric, galactic and man-made noise predomina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15 meters, in a quiet rural location, the receiver is still rarely the limit.  Examp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C0B, 5 element yagi at 70 feet, 270 feet of 7/8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ch hardline, antenna pointed in the quietest direction (30 degrees) at 4 PM on 2/28/201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iver sensitivity, no preamp, 2.4 kHz = 0.5 u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iver sensitivity, w/ preamp, 2.4 kHz = 0.2 u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iver noise floor, w/ preamp, 500 Hz = -135 dB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57360" cy="16286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2222280" y="2084400"/>
            <a:ext cx="576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herwood Engineering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8080" y="3886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</a:rPr>
              <a:t>http://www.sherwood-engineering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51814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</a:rPr>
              <a:t>http://www.NC0B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J-155CA yagi in the previous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66680" y="1484280"/>
            <a:ext cx="7620120" cy="525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71920" y="795600"/>
            <a:ext cx="785736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simple test with only a analog met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hams don’t own a calibrated signal generator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you evaluate your receiv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asure the noise gain when you connect your antenna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you need is an analog meter with a dB scale, hooked up to your speak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easure the noise ga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onnect your antenna and set the volume so your dB meter reads -10 dB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Put a dummy load on the rig, but it will likely  make no difference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nect the antenna and see how many dB the noise goes up when tuned to a dead spot on the ba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this with Preamp OFF and 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71920" y="795600"/>
            <a:ext cx="785736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did I measure on 15 meter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preamp OFF, noise gain = 3.0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preamp ON, noise gain = 8.3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This was in the quietest direction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the preamp ON, now rotate your yagi 360 degrees and note the difference in noi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direction there is skip, the noise will be hig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a 10 dB difference in band noise vs. direction.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7T16:48:08Z</dcterms:created>
  <dc:creator>Chris &amp; Terri Cantrell</dc:creator>
  <dc:description/>
  <dc:language>en-US</dc:language>
  <cp:lastModifiedBy>Rob Sherwood</cp:lastModifiedBy>
  <dcterms:modified xsi:type="dcterms:W3CDTF">2011-05-18T13:32:54Z</dcterms:modified>
  <cp:revision>328</cp:revision>
  <dc:subject/>
  <dc:title>Radios Used in a Contest Environ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