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CEF-D964-4042-BBD1-B01AD9D7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F59-AE3C-4333-836F-BA95337B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F8E-6B7B-4AAA-B256-072B121B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F75-E7A4-4D96-96B1-479ACB00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BF8F-A079-488E-B500-2C4CE932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D21B-4E73-45CE-9406-845DE49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2289-35B1-4886-842B-70907EE5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056-073C-440C-9643-980510C0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ACD2-511E-4C0C-8497-256E40E4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D744-AE31-45B2-8547-7710B5E6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DB1D-E454-4CD6-88EC-9D534553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E08-DFEA-4655-9EE7-AFF94A5C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F304-CB91-47CD-B610-953CBB8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C373-D292-438A-ACD6-1F3AE6B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E699-B232-48BF-A8FA-3525AAA1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C07D-76A1-4E65-BDD3-99C98BE9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0174-D04B-401F-AB44-AC829A38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23A-B5C6-4FE5-AC71-4C1D4534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453-2FEA-453C-95D1-7FD88081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23B-9876-4439-AC48-53E28921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9DB-C7F6-4F8E-B09F-E3B479C4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CA5-1864-4A54-A903-9306D64B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832-E73C-46E0-8BE6-7807FE6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70F-748F-40B2-8C05-7B915A1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54CD-AAC1-4F2A-94DE-0418121120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581-4EDA-4610-BB43-28596BE9FD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09000" y="1594440"/>
            <a:ext cx="8164080" cy="10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ransceiver Performance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’s new in the last year?</a:t>
            </a:r>
            <a:br>
              <a:rPr sz="28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options for your dolla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5 &amp; 10 meters not that differ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g = IC-756 Pro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eter antenna = Hy-gain 105CA @ 65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eter antenna = Hy-gain 155CA @ 70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5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.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3.0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Variables – Plan ahead if you c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my QTH there are two towers near the house and four 200 to 350 feet away.  My noise level on 20 – 10 meters is vastly worse for the close-in towers, unless I turn off electronic de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Vs (CRT or plasma), UPS &amp; family-room computer, broadband router (makes birdies), wireless Internet dish, wall warts  with switching power supplies, hand touch lamp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00160" y="795600"/>
            <a:ext cx="755244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wer Distance vs. local RFI (noise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15364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95960" y="795600"/>
            <a:ext cx="800928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Quite Consistent in Top 1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e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25 dBm (No pream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3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2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9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7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m R95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0 dB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ke R-4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 (For comparison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bers with Preamp-1 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ang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very strong signals to very weak signals that  the receiver can han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52680" y="1522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 to Measure Dynamic Ran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41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55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8480" y="3809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67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81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85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197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205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SB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213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W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st performance with a bandwidth appropriate filter right up front after the first mi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has changed in last 8 year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-Tec started the change in 2003 with the Orion, the first radio to drop “up-conversion” and go back to a low first IF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followed, and now Yaesu and Kenwood in 2010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Icom has of yet not offered a “down-conversion”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S-590S is a big seller, will Kenwood follow on with a larger and more expensive model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-152280" y="0"/>
            <a:ext cx="3200400" cy="6858000"/>
            <a:chOff x="-152280" y="0"/>
            <a:chExt cx="3200400" cy="6858000"/>
          </a:xfrm>
        </p:grpSpPr>
        <p:sp>
          <p:nvSpPr>
            <p:cNvPr id="223" name=""/>
            <p:cNvSpPr/>
            <p:nvPr/>
          </p:nvSpPr>
          <p:spPr>
            <a:xfrm>
              <a:off x="-15228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92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3339360" y="291240"/>
            <a:ext cx="5742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298160"/>
            <a:ext cx="83059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 Meter standard i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58200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757 (56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2000 (61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-7000 (63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ypical Up-convers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 MP 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k V Field (68 / 69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56 Pro II / III (75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mni-VII / IC-7800 (8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S-590S (88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gle &amp;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lex 3K  (9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I &amp; Flex 5000A (95 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dx-5000, K3 (200 Hz roofing)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important in a contest enviro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Dynamic Range to hear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eak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presence of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ear-by strong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.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spcBef>
                <a:spcPts val="2625"/>
              </a:spcBef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need a better receiver for CW than for SS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 good neighbor: i.e. Have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mitters continue to be a mixed ba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95960" y="795600"/>
            <a:ext cx="76284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ynamic Range of Top 8 Transceiv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6 dB (Flex users raise han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 (with 500 Hz fil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8 dB (Low Freq 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F mo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6 dB (30, 17, 12, 10 &amp; 6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2-kHz Test @ 500 Hz B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did the new rigs perform on C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used the FTdx-5000, TS-590S and Eagle in the 160 m. ARRL, Stew Perry &amp; CQ con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itched between the Kenwood and the Ten-Tec during the CQ cont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load was never an 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could crank down the DSP filter to 100 Hz or narrow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 most of the contest at 2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tely needed 50 to 1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rrow DSP Filters Come Throug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ll three contests working CE1/K7CA required the narrowest bandwidths to copy through the pile-up, since he was not working spl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goodness the DXpeditions work split, so you can hear when the DX comes back to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imagine what it is like at the DX location: total pandemonium for days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R3 “window” is not fix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057400"/>
            <a:ext cx="8077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ynamic range of a radio is the same with an attenuator ON or OFF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on a noisy band, attenuate the noise and all signals to make better use of the dynamic range, and reduce the chance of overlo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and noise goes from S6 to S2 by turning on the attenuator, you have l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yet your radio is being stressed much les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now look at the transmitt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am now testing transmitters with white noise feeding the microphone, in addition to a two-tone test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of IMD products (splatter) are more obvious with nois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of it as a 1000 tone test, more approximating real voice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ite Noise Mk V Class A vs. K3 Class B @ 75 Wat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8288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7524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924680" cy="4908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26668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5530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429000"/>
            <a:ext cx="4572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520" y="3429000"/>
            <a:ext cx="221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.5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rtesy W6X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shipped since Dayton 2010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aesu FTdx-5000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Kenwood TS-590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n-Tec Eagl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-Tec Eagle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47920" y="1619280"/>
            <a:ext cx="6476760" cy="4995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133720" y="37339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9718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5486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7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enwood 590S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705720" cy="5132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648320" y="2895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40384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5486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00280" y="7239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on top, 756 Pro III on bott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19320" y="1469880"/>
            <a:ext cx="6933960" cy="5388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3526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00 about 10 dB worse than the Pro I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724280" y="2819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49528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2895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dB Offs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3733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 dB difference at 6 k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Parameter is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ose-in Dynamic Range (DR3)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We have to know the noise floor to calculate Dynamic Range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11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Tdx-5000D Class A – Two Levels ALC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3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609588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AL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2971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C Half Sc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352680"/>
            <a:ext cx="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3200400"/>
            <a:ext cx="0" cy="22096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19520" y="541008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 dB down 2 kHz aw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352680"/>
            <a:ext cx="0" cy="198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’s wrong with the FTdx-5000D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ades ago Collins clearly stated that an ALC circuit should have a SLOW time constant (decay).  ALC should just be a slow leveling circuit.  Speech processing should be done way before the PA and the ALC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sue can be fixed, either in hardware or in firmware, but I don’t know which it 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am breaks into my 20 meter QS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some breaks in to comment on your signal, what is your first though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must be splattering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5000D in Class A, and NO ALC, the ham broke in to say I had the cleanest signal he had ever seen on the air with his K3 and his P3 bandsco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Could Contests Be Like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ould CQ WW or ARRL DX be like if everyone had a signal this clean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et some hams don’t want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want “elbow room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goes back to Contest Ethics from this morn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 to CW sign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1905120"/>
            <a:ext cx="6781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have seen how width of an SSB signal &amp; its IMD products affects how close you can operate to another s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CW compa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close can we work to a strong adjacent CW signal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43280" y="5101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is the Bandwidth of CW Signal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n channel signal = S9 + 40 dB (-33 dB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ceiver = K3, 400 Hz 8-pole roofing + 400 Hz DSP Fil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mitter = Omni-VII with adjustable ri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desired signal 700 Hz away, continuous “dits” at 30 wp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se time of Omni-VI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ength of CW sideband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9 + 4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7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5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6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5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2  dB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7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105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 d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40384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10 msec, “dits” at 30 WPM, Bandwidth -70 dB = +/- 450 Hz = 900 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343400" y="5715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3 msec, “dits” at 30 WPM, Bandwidth -70 dB = +/- 750 Hz = 1500 Hz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886200" y="5638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ison of 3 msec vs 10 msec rise ti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V="1">
            <a:off x="5715000" y="4876560"/>
            <a:ext cx="1522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4876920"/>
            <a:ext cx="1526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48769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41008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4419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0 dB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ding edge of “dit”  3 &amp; 10 ms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4952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ter bandwidth, CW or SSB, for example, and is bandwidth depen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532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01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47960" y="21146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SSB you want DR3 = 70 dB, or mor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CW you want DR3 = 80 dB, or more.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is is most economically accomplished with low IF (5 to 9 MHz) selectable crys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ofing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filte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t is much more difficult to deliver 80 dB or higher DR3 with the more common Up-Conversion desig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nsmitted bandwidth of the interfering signal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the limit, not the receiver.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7621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st the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90720" y="1523880"/>
            <a:ext cx="7696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 dB or better @ 2 kHz with a 500 Hz bandwid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1 Ten-Tec Omni-VI+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Icom IC-78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Ten-Tec Orion 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5 Ten-Tec Orion 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Flex 5000A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6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Ten-Tec Omni-V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8 Elecraft K3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Kenwood TS-590S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8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Ten-Tec Eagle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FTdx-50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90720" y="1447920"/>
            <a:ext cx="754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ecraft K2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R-390A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Pro II / Pro I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is shockingly b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9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st radio I have ever tested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ynamic rang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gus ARRL Dynamic Range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modern transceivers are phase noise limited, particularly close-in at 2 kHz.  The League wanted be able to measure the IMD buried in the phase noise, and came up with a new method a few years ago using a spectrum analyzer with a 3-Hz filte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with 3-Hz Spectrum Analyz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248160" cy="5002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10280" y="1523880"/>
            <a:ext cx="2133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ase noise limited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t 2 kHz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asured with a 3-Hz filter on the analyzer, the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 2 kHz!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20040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8098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D @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22096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tone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41148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 Hz DSP Filter Pass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New ARRL DR3 Method Me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d method, IMD or noise increased 3 d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D tone at noise floor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as DR3, either IMD or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new method, noise increased 10 dB, and by ear you hea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hing but noi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this the sam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less you work a contest using a 3-Hz CW filter, the new League dynamic range measurements are meaningles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radio is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977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35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800 ARRL Old vs. New Metho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/18/2006  IC-7800 test data, old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Phase Noise Limited @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kHz, Phase Noise Limited @ 67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/6/2007 IC-7800 test data, new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dynamic range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6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measurement reported at 1 kH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ex 3000 Old Method vs. 3 Hz Fil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Old Method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3 = 9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is completely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pectrum Analyzer method measures a dynamic range betwe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5 and 99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pending on the spa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on II and the K3 perform better, but no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cannot tell that by the QST numb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hase noise should not be ignored 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blem is the League is now measuring dynamic range in such a way to eliminate phase noise from the equation.  Phase noise (reciprocal mixing in a QST review) gets but a single line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lecraft K3 at 99 dB is not the same as a Flex 3000 at 99 dB, yet you would never know that from a QST review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 How good is good enoug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82880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Dynamic Range Receiver (DR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 dB for SSB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for C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the “real” DR3 &gt; 90 dB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receiver is fine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ces of a few dB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ignifica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2 u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testing needs to approximate the real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– Rarely an Issue on H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20 meters and below, atmospheric, galactic and man-made noise predomin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15 meters, in a quiet rural location, the receiver is still rarely the limit. 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C0B, 5 element yagi at 70 feet, 270 feet of 7/8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ch hardline, antenna pointed in the quietest direction (30 degrees) at 4 PM on 2/28/20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no preamp, 2.4 kHz = 0.5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w/ preamp, 2.4 kHz = 0.2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noise floor, w/ preamp, 500 Hz = 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J-155CA yagi in the previous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484280"/>
            <a:ext cx="7620120" cy="525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imple test with only a analog me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hams don’t own a calibrated signal generato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evaluate your receiv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sure the noise gain when you connect your antenna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you need is an analog meter with a dB scale, hooked up to your speak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asure the noise ga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 your antenna and set the volume so your dB meter reads -10 dB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ut a dummy load on the rig, but it will likely  make no difference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antenna and see how many dB the noise goes up when tuned to a dead spot on the b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his with Preamp OFF and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id I measure on 15 meter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preamp OFF, noise gain = 3.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preamp ON, noise gain = 8.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his was in the quietest direction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preamp ON, now rotate your yagi 360 degrees and note the difference in noi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direction there is skip, the noise will be hig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a 10 dB difference in band noise vs. direction.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Rob Sherwood</cp:lastModifiedBy>
  <dcterms:modified xsi:type="dcterms:W3CDTF">2011-05-18T13:32:54Z</dcterms:modified>
  <cp:revision>328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