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439-2F8D-4913-8812-412EE318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397-4D82-44DF-80DC-306CFC42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89F-01AC-4BEB-BFEA-7E953501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B7C-9DC3-452C-9D52-80B25757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F9DF-5578-4DAC-8626-70B00059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7EBD-2313-448B-8034-64743C19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657E-7718-454E-839E-AD11E6A5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335E-C500-4B60-B9D5-0D40A1F1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EA67-8A71-43AA-8400-CEE83BB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EC46-23DD-4C49-8D9D-FA724776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3B4D-0B1A-4F04-B652-8820A07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4F2-8859-4AD9-95C8-7F8A9A39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649B-8E77-408C-80A6-97974D8B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09ED-B6FD-4807-A0C8-1E96EFC2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D1BD-9481-42BC-9DEE-162FD481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03E0-15D0-4BB3-BCC3-0E902059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B7F-8918-451A-981F-E8C5504D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199-EE5A-4BF8-BA2A-E5305A28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F30-B431-4EED-835F-2A1D34A7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FE7-10FD-4B3C-B05F-AF725650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EED-0AF5-4820-BC1D-19BF0146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731-5179-46DE-8E16-9D1D4B98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4AE-32FE-49FA-BA77-94DD1ED3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756-B3B0-46A3-ADA3-0AF9384E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219320"/>
            <a:ext cx="7391520" cy="228600"/>
            <a:chOff x="228600" y="1219320"/>
            <a:chExt cx="7391520" cy="228600"/>
          </a:xfrm>
        </p:grpSpPr>
        <p:sp>
          <p:nvSpPr>
            <p:cNvPr id="4" name=""/>
            <p:cNvSpPr/>
            <p:nvPr/>
          </p:nvSpPr>
          <p:spPr>
            <a:xfrm>
              <a:off x="609480" y="12193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193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B60E-89C6-4B84-B080-803339A3E0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57600" y="4343400"/>
            <a:ext cx="4876920" cy="228600"/>
            <a:chOff x="3657600" y="4343400"/>
            <a:chExt cx="4876920" cy="228600"/>
          </a:xfrm>
        </p:grpSpPr>
        <p:sp>
          <p:nvSpPr>
            <p:cNvPr id="51" name=""/>
            <p:cNvSpPr/>
            <p:nvPr/>
          </p:nvSpPr>
          <p:spPr>
            <a:xfrm flipH="1">
              <a:off x="3657600" y="4343400"/>
              <a:ext cx="4626000" cy="22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4240" y="4343400"/>
              <a:ext cx="2602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6A46-5503-4F18-BFCD-BA756EE8EB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53200" y="1843560"/>
            <a:ext cx="7894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Roofing Filters, Transmitted IMD and Receiver Performance</a:t>
            </a:r>
            <a:br>
              <a:rPr sz="4800"/>
            </a:b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Rob Sherwo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NC</a:t>
            </a:r>
            <a:r>
              <a:rPr b="1" lang="en-US" sz="4000" spc="-1" strike="noStrike">
                <a:solidFill>
                  <a:srgbClr val="993300"/>
                </a:solidFill>
                <a:latin typeface="SimSun"/>
                <a:ea typeface="SimSun"/>
              </a:rPr>
              <a:t>Ø</a:t>
            </a: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05520"/>
            <a:ext cx="8229600" cy="9903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important when it comes to choosing a radio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16200" y="6477120"/>
            <a:ext cx="2133000" cy="416520"/>
            <a:chOff x="-16200" y="6477120"/>
            <a:chExt cx="2133000" cy="416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840" y="6477120"/>
              <a:ext cx="1573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-16200" y="6629400"/>
              <a:ext cx="2133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Impact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Sherwood Engineerin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1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824400" y="824400"/>
            <a:ext cx="8180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en are 2 Out of Pass Band Signals a Probl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1640880"/>
            <a:ext cx="830556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know the close-in dynamic range of a radio, at what signal level will IMD start to be a proble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e 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9 = 50 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which is 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–73 dB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e a typical radio:</a:t>
            </a:r>
            <a:br>
              <a:rPr sz="2400"/>
            </a:b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0 Hz CW filt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ise Floor of -128 dB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amp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28600" y="1676520"/>
            <a:ext cx="7391520" cy="152280"/>
            <a:chOff x="228600" y="1676520"/>
            <a:chExt cx="7391520" cy="152280"/>
          </a:xfrm>
        </p:grpSpPr>
        <p:sp>
          <p:nvSpPr>
            <p:cNvPr id="216" name=""/>
            <p:cNvSpPr/>
            <p:nvPr/>
          </p:nvSpPr>
          <p:spPr>
            <a:xfrm>
              <a:off x="609480" y="1676520"/>
              <a:ext cx="7010640" cy="1515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28600" y="1676520"/>
              <a:ext cx="393840" cy="1522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905120" y="3753720"/>
            <a:ext cx="6095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Dynamic Range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Signal Level Causing IMD = Noise Flo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2760" y="1514880"/>
            <a:ext cx="80956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nsmitted IMD Collins 32S-3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884240"/>
            <a:ext cx="9144000" cy="497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05880" y="235800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pare the Old vs. New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599840" y="2971800"/>
            <a:ext cx="65530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rder   Collins   Yaesu     Differenc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MD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32S-3   FT-450       in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39 dB    -30 dB        9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49 dB    -37 dB      12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   -59 dB    -42 dB      17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9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68 dB    -48 dB      20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688760" y="1752480"/>
            <a:ext cx="541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lose-in Signal and Spla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7440" y="571500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Filter vs. Adjacent Signal and IMD Spla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32004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gnal 5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3886200"/>
            <a:ext cx="106704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562720"/>
            <a:ext cx="4343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83120" y="464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5334120"/>
            <a:ext cx="144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362320" y="4114800"/>
            <a:ext cx="2874960" cy="1447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4267080" y="4114800"/>
            <a:ext cx="15264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4114800"/>
            <a:ext cx="15264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411480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819520"/>
            <a:ext cx="0" cy="2743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How Many Roofing Filters are Needed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depends on your mode of oper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For SSB, a single 15 kHz roofing filter is adequate, such as in the Icom 756 Pro II / Pro III with a close-in dynamic range of 75 dB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Other radios, old and new with similar performance: Drake R7/TR7, Collins 75S-3B/C, Icom 781, TS-830/930, FT-1000X, T-T Omni-V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uld a 3 kHz roofing filter be better?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, a fairly new concept.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On CW, a single wide roofing filter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 adequat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CW signals do not have IMD products, thus strong adjacent signals do not have much energy in the CW passband of your filter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(Some key click and phase-noise energy may be heard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844560"/>
            <a:ext cx="79246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onclus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sters – DXers – Pileup operators need the best receiver possible, especially for CW op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herwood 600 Hz CW roofing filter fixed the R-4C in 1976, and the Ten-Tec Orion put that concept in a commercial design in 2003. Now the Elecraft K3 also offers multiple roofing filters of AM, SSB &amp; CW bandwidth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38080" y="1600200"/>
            <a:ext cx="79250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5 years of up conversion radios have generally offered a 20 kHz dynamic range in the 90s but a 2 kHz close-in dynamic range in the 70s. Typical degradation of dynamic range within the up conversion filter bandwidth is 25 dB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the buzz word is a 3-kHz roofing filter in up-conversion radios, though some are pure hyp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-7800 3-kHz filter is 5+ kHz wide.  FT-2000 3-kHz filter is 7 kHz wide, with worse IMD than its 6 kHz filte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23880" y="2057400"/>
            <a:ext cx="64008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not possible to offer CW bandwidth Roofing Filters at VHF (up-conversion) frequenc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on II and the K3 roofing filters are in the 8 to 9 MHz range, similar to the R-4C at 5 MHz.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nly radios with no roofing filters at all are from Flex, like the 5000A.   It basically converts everything to audio and filters it in DSP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66680" y="1606680"/>
            <a:ext cx="7696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ynamic range is possible and needed for C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 dB or better @ 2 kH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76 Sherwood / Drake R-4C: 84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1 Ten-Tec Omni-VI+: 8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5 Ten-Tec Orion II: 95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7 Flex 5000A: 96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7 Ten-Tec Omni-VII: 8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8 Elecraft K3: 101 dB (with 200 Hz roofing filt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66680" y="1600200"/>
            <a:ext cx="7543800" cy="77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radios for comparison, 2 kHz dat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nwood TS-850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7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ins 75S-3B/C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2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nwood TS-870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9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aesu FT-2000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com IC-7000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aesu FT-On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aesu FT-101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9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rake R-4C Stock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8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aesu FT-757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6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aesu VR-5000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9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28640" y="804960"/>
            <a:ext cx="7381080" cy="59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y Did I Start Testing Radios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rchased a new Drake R-4C in 197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it during the ARRL 160m CW con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Radio performed miserably, y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cs Were G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0s: League expanded testing to include Noise Floor &amp; Dynamic Range, new concepts for the amateu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-4C tested well for Dynamic Range, but flunked CW contest 10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 the wrong thing being tested or did the test not approximate a real amateur environment, especially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W contest environ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8600" y="1371600"/>
            <a:ext cx="7391520" cy="228600"/>
            <a:chOff x="228600" y="1371600"/>
            <a:chExt cx="7391520" cy="228600"/>
          </a:xfrm>
        </p:grpSpPr>
        <p:sp>
          <p:nvSpPr>
            <p:cNvPr id="106" name=""/>
            <p:cNvSpPr/>
            <p:nvPr/>
          </p:nvSpPr>
          <p:spPr>
            <a:xfrm>
              <a:off x="609480" y="137160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28600" y="137160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57360" cy="1628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222280" y="2084400"/>
            <a:ext cx="576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herwood Engineer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38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sherwood-engineering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51814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NC0B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28800"/>
            <a:ext cx="7086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20 kHz Dynamic Ran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est showed that in a multi-conversion radio, it was only testing the radio’s front en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first IF was 6 - 20 kHz wide, be it at 5 MHz, 9 MHz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45 - 70 MHz, the radio would overload in a CW pile up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 kHz test show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hint of the probl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Solution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lace test signals close together so they pass thr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IF Filter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ext Amplifier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x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ose-in dynamic range numbers ar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WAYS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se than the wide-spaced numbers, for a radio with a single wide roofing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24400" y="900720"/>
            <a:ext cx="825660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2 Numbers are Most Important for a CW Contester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oise Floo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ose-in Dynamic Rang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28600" y="1676520"/>
            <a:ext cx="7391520" cy="228600"/>
            <a:chOff x="228600" y="1676520"/>
            <a:chExt cx="7391520" cy="228600"/>
          </a:xfrm>
        </p:grpSpPr>
        <p:sp>
          <p:nvSpPr>
            <p:cNvPr id="119" name=""/>
            <p:cNvSpPr/>
            <p:nvPr/>
          </p:nvSpPr>
          <p:spPr>
            <a:xfrm>
              <a:off x="609480" y="16765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28600" y="16765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0000" y="65736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is Noise Floo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is a familiar number, normally applies to SS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Sensitivity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10 dB Signal + Noise / Noise (10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Noise Floor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3 dB Signal + Noise / Noise  (3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can be measured at any filter bandwidth, CW or SSB, for examp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gue normally only publishes noise floor for a CW bandwidth, typically 500 Hz CW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60020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What is Dynamic Rang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vs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-Spaced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lose-in Dynam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 important for CW op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it less important for SSB operato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39080" y="6400800"/>
            <a:ext cx="100080" cy="23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762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Third Order IM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19320" y="2057400"/>
            <a:ext cx="7619760" cy="4191120"/>
            <a:chOff x="1219320" y="2057400"/>
            <a:chExt cx="7619760" cy="4191120"/>
          </a:xfrm>
        </p:grpSpPr>
        <p:sp>
          <p:nvSpPr>
            <p:cNvPr id="129" name=""/>
            <p:cNvSpPr/>
            <p:nvPr/>
          </p:nvSpPr>
          <p:spPr>
            <a:xfrm>
              <a:off x="1219320" y="6248520"/>
              <a:ext cx="7619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124080" y="2057400"/>
              <a:ext cx="1752120" cy="4191120"/>
              <a:chOff x="3124080" y="2057400"/>
              <a:chExt cx="1752120" cy="4191120"/>
            </a:xfrm>
          </p:grpSpPr>
          <p:sp>
            <p:nvSpPr>
              <p:cNvPr id="131" name=""/>
              <p:cNvSpPr/>
              <p:nvPr/>
            </p:nvSpPr>
            <p:spPr>
              <a:xfrm>
                <a:off x="31240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381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38480" y="342900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952880" y="2057400"/>
              <a:ext cx="1752120" cy="4191120"/>
              <a:chOff x="4952880" y="2057400"/>
              <a:chExt cx="1752120" cy="4191120"/>
            </a:xfrm>
          </p:grpSpPr>
          <p:sp>
            <p:nvSpPr>
              <p:cNvPr id="135" name=""/>
              <p:cNvSpPr/>
              <p:nvPr/>
            </p:nvSpPr>
            <p:spPr>
              <a:xfrm>
                <a:off x="49528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69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676160" y="5181480"/>
              <a:ext cx="1066320" cy="1067040"/>
              <a:chOff x="1676160" y="5181480"/>
              <a:chExt cx="1066320" cy="1067040"/>
            </a:xfrm>
          </p:grpSpPr>
          <p:sp>
            <p:nvSpPr>
              <p:cNvPr id="138" name=""/>
              <p:cNvSpPr/>
              <p:nvPr/>
            </p:nvSpPr>
            <p:spPr>
              <a:xfrm>
                <a:off x="16761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093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2096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672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162560" y="5181480"/>
              <a:ext cx="1066320" cy="1067040"/>
              <a:chOff x="7162560" y="5181480"/>
              <a:chExt cx="1066320" cy="1067040"/>
            </a:xfrm>
          </p:grpSpPr>
          <p:sp>
            <p:nvSpPr>
              <p:cNvPr id="143" name=""/>
              <p:cNvSpPr/>
              <p:nvPr/>
            </p:nvSpPr>
            <p:spPr>
              <a:xfrm>
                <a:off x="76957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625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2280" y="1371600"/>
            <a:ext cx="7391520" cy="228600"/>
            <a:chOff x="152280" y="1371600"/>
            <a:chExt cx="7391520" cy="228600"/>
          </a:xfrm>
        </p:grpSpPr>
        <p:sp>
          <p:nvSpPr>
            <p:cNvPr id="149" name=""/>
            <p:cNvSpPr/>
            <p:nvPr/>
          </p:nvSpPr>
          <p:spPr>
            <a:xfrm>
              <a:off x="533160" y="137160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52280" y="137160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39080" y="6400800"/>
            <a:ext cx="100080" cy="23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588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keeps the undesired strong signals from progressing down stream to the next s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04920"/>
            <a:ext cx="304560" cy="304560"/>
          </a:xfrm>
          <a:prstGeom prst="flowChartMerg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55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838080" y="1905120"/>
            <a:ext cx="8077320" cy="3733200"/>
            <a:chOff x="838080" y="1905120"/>
            <a:chExt cx="8077320" cy="3733200"/>
          </a:xfrm>
        </p:grpSpPr>
        <p:sp>
          <p:nvSpPr>
            <p:cNvPr id="158" name=""/>
            <p:cNvSpPr/>
            <p:nvPr/>
          </p:nvSpPr>
          <p:spPr>
            <a:xfrm>
              <a:off x="1295280" y="2506320"/>
              <a:ext cx="65530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18480" y="195084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500 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14600" y="190512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6–12 k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394880" y="1759320"/>
              <a:ext cx="1096560" cy="1479240"/>
            </a:xfrm>
            <a:prstGeom prst="flowChartMerg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800" y="2300040"/>
              <a:ext cx="12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mplifi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08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7220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209680" y="2514240"/>
              <a:ext cx="304920" cy="2604960"/>
              <a:chOff x="2209680" y="2514240"/>
              <a:chExt cx="304920" cy="2604960"/>
            </a:xfrm>
          </p:grpSpPr>
          <p:sp>
            <p:nvSpPr>
              <p:cNvPr id="166" name=""/>
              <p:cNvSpPr/>
              <p:nvPr/>
            </p:nvSpPr>
            <p:spPr>
              <a:xfrm>
                <a:off x="220968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0968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80920" y="2514240"/>
              <a:ext cx="305280" cy="2604960"/>
              <a:chOff x="3580920" y="2514240"/>
              <a:chExt cx="305280" cy="2604960"/>
            </a:xfrm>
          </p:grpSpPr>
          <p:sp>
            <p:nvSpPr>
              <p:cNvPr id="169" name=""/>
              <p:cNvSpPr/>
              <p:nvPr/>
            </p:nvSpPr>
            <p:spPr>
              <a:xfrm>
                <a:off x="388620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8092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514600" y="454176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600 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838080" y="838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f we could switch in a narrow Roofing Filter only slightly wider than the final selectivit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39080" y="6400800"/>
            <a:ext cx="100080" cy="23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95600" y="87192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ide &amp; Close Dynamic Ran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3200" y="20113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0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94040" y="198108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38080" y="2743200"/>
            <a:ext cx="4343400" cy="3342240"/>
            <a:chOff x="838080" y="2743200"/>
            <a:chExt cx="4343400" cy="3342240"/>
          </a:xfrm>
        </p:grpSpPr>
        <p:sp>
          <p:nvSpPr>
            <p:cNvPr id="178" name=""/>
            <p:cNvSpPr/>
            <p:nvPr/>
          </p:nvSpPr>
          <p:spPr>
            <a:xfrm>
              <a:off x="1140480" y="568656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36840" y="325116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0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360" y="350532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1960" y="381024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03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19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5486400"/>
              <a:ext cx="4343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895480" y="4200480"/>
              <a:ext cx="2133720" cy="1295640"/>
              <a:chOff x="2895480" y="4200480"/>
              <a:chExt cx="2133720" cy="129564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2895480" y="4200480"/>
                <a:ext cx="2133720" cy="1285920"/>
              </a:xfrm>
              <a:custGeom>
                <a:avLst/>
                <a:gdLst>
                  <a:gd name="textAreaLeft" fmla="*/ 561960 w 2133720"/>
                  <a:gd name="textAreaRight" fmla="*/ 1571760 w 2133720"/>
                  <a:gd name="textAreaTop" fmla="*/ 338760 h 1285920"/>
                  <a:gd name="textAreaBottom" fmla="*/ 947160 h 12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7200" y="45817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2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81280" y="4353120"/>
                <a:ext cx="762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62160" y="526752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9982080" y="54864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83880" y="2743200"/>
            <a:ext cx="3638880" cy="3370320"/>
            <a:chOff x="5483880" y="2743200"/>
            <a:chExt cx="3638880" cy="3370320"/>
          </a:xfrm>
        </p:grpSpPr>
        <p:sp>
          <p:nvSpPr>
            <p:cNvPr id="192" name=""/>
            <p:cNvSpPr/>
            <p:nvPr/>
          </p:nvSpPr>
          <p:spPr>
            <a:xfrm>
              <a:off x="5483880" y="571464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9960" y="32320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65760" y="5486040"/>
              <a:ext cx="2590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994360" y="4190760"/>
              <a:ext cx="2133360" cy="1294560"/>
              <a:chOff x="5994360" y="4190760"/>
              <a:chExt cx="2133360" cy="1294560"/>
            </a:xfrm>
          </p:grpSpPr>
          <p:sp>
            <p:nvSpPr>
              <p:cNvPr id="196" name=""/>
              <p:cNvSpPr/>
              <p:nvPr/>
            </p:nvSpPr>
            <p:spPr>
              <a:xfrm>
                <a:off x="6680160" y="441900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994360" y="4190760"/>
                <a:ext cx="2133360" cy="1285200"/>
              </a:xfrm>
              <a:custGeom>
                <a:avLst/>
                <a:gdLst>
                  <a:gd name="textAreaLeft" fmla="*/ 561960 w 2133360"/>
                  <a:gd name="textAreaRight" fmla="*/ 1571400 w 2133360"/>
                  <a:gd name="textAreaTop" fmla="*/ 338400 h 1285200"/>
                  <a:gd name="textAreaBottom" fmla="*/ 946800 h 128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46080" y="457164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2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80160" y="434304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37360" y="52570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80160" y="52570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83244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8508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05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4560" y="1219320"/>
            <a:ext cx="7391160" cy="228600"/>
            <a:chOff x="304560" y="1219320"/>
            <a:chExt cx="7391160" cy="228600"/>
          </a:xfrm>
        </p:grpSpPr>
        <p:sp>
          <p:nvSpPr>
            <p:cNvPr id="208" name=""/>
            <p:cNvSpPr/>
            <p:nvPr/>
          </p:nvSpPr>
          <p:spPr>
            <a:xfrm>
              <a:off x="685440" y="1219320"/>
              <a:ext cx="701028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04200" y="1219320"/>
              <a:ext cx="3934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6:48:08Z</dcterms:created>
  <dc:creator>Chris &amp; Terri Cantrell</dc:creator>
  <dc:description/>
  <dc:language>en-US</dc:language>
  <cp:lastModifiedBy>Terri &amp; Chris Cantrell</cp:lastModifiedBy>
  <dcterms:modified xsi:type="dcterms:W3CDTF">2008-02-29T00:08:57Z</dcterms:modified>
  <cp:revision>162</cp:revision>
  <dc:subject/>
  <dc:title>Radios Used in a Contest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