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2CC-C866-4EF1-ACAE-7220D22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D95-A01A-4F78-AC85-65815508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5EE-ACAD-46B2-9BFB-1A6044F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227-82A5-46C9-B6F4-FA74C79E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2335-3351-4257-ACD6-51A74973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A54E-5C7C-41EC-8B4E-E09B9C3D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3D2-EA27-46F1-97D0-8C2DE0B1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B79-A42A-487A-8D69-1BABCB43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E734-C145-4469-B45B-44CDA99E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0873-1C64-4D60-99C4-F08621E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20EF-8135-4C0F-9CA6-DB0821F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058-0932-4360-875C-5BEE163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2EF-7587-4AA9-B456-9324729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93B-ADC6-4882-89FF-27F5D13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3432-0E43-4F7D-8AA8-10F79C1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11A1-08A3-4374-9CE0-9378BCA9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3F38-E168-434C-ACCB-688CE13C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3DC-FA1F-4D1B-ABAB-0B06F222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BA8-5B4D-4195-8F1F-F00E9B4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E9E-3F5A-4844-A133-7266E10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464-7CEE-4EA4-B9D9-7D5D37C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599-040C-4367-82D1-254E5DD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A5E-9538-46A2-949A-417AEFD6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ADA-1BD1-44B6-ABB7-6222861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A51-9C7B-4A44-8F7E-A69A25CB41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F67-2DEC-4425-9745-85D3D1F4EE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53200" y="1843560"/>
            <a:ext cx="7894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Roofing Filters, Transmitted IMD and Receiver Performance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mportant when it comes to choosing a radi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824400" y="824400"/>
            <a:ext cx="8180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640880"/>
            <a:ext cx="83055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" y="1676520"/>
            <a:ext cx="7391520" cy="152280"/>
            <a:chOff x="228600" y="1676520"/>
            <a:chExt cx="7391520" cy="152280"/>
          </a:xfrm>
        </p:grpSpPr>
        <p:sp>
          <p:nvSpPr>
            <p:cNvPr id="216" name=""/>
            <p:cNvSpPr/>
            <p:nvPr/>
          </p:nvSpPr>
          <p:spPr>
            <a:xfrm>
              <a:off x="609480" y="16765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8600" y="1676520"/>
              <a:ext cx="393840" cy="1522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905120" y="3753720"/>
            <a:ext cx="6095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2760" y="1514880"/>
            <a:ext cx="80956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nsmitted IMD Collins 32S-3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884240"/>
            <a:ext cx="9144000" cy="497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5880" y="235800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are the Old vs. New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599840" y="2971800"/>
            <a:ext cx="65530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rder   Collins   Yaesu     Differen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M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32S-3   FT-450       in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39 dB    -30 dB        9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49 dB    -37 dB      12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-59 dB    -42 dB      17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68 dB    -48 dB      20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88760" y="1752480"/>
            <a:ext cx="541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ose-in Signal and Spla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7440" y="57150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Filter vs. Adjacent Signal and IMD Spla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32004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gnal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3886200"/>
            <a:ext cx="106704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562720"/>
            <a:ext cx="4343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83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3341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362320" y="4114800"/>
            <a:ext cx="2874960" cy="1447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4267080" y="4114800"/>
            <a:ext cx="15264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114800"/>
            <a:ext cx="15264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411480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819520"/>
            <a:ext cx="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How Many Roofing Filters are Needed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depends on your mode of 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or SSB, a single 15 kHz roofing filter is adequate, such as in the Icom 756 Pro II / Pro III with a close-in dynamic range of 75 dB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Other radios, old and new with similar performance: Drake R7/TR7, Collins 75S-3B/C, Icom 781, TS-830/930, FT-1000X, T-T Omni-V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a 3 kHz roofing filter be better?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, a fairly new concept.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On CW, a single wide roofing filter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adequat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CW signals do not have IMD products, thus strong adjacent signals do not have much energy in the CW passband of your filter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(Some key click and phase-noise energy may be heard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844560"/>
            <a:ext cx="79246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sters – DXers – Pileup operators need the best receiver possible, especially for CW op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herwood 600 Hz CW roofing filter fixed the R-4C in 1976, and the Ten-Tec Orion put that concept in a commercial design in 2003. Now the Elecraft K3 also offers multiple roofing filters of AM, SSB &amp; CW bandwidth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8080" y="1600200"/>
            <a:ext cx="79250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 years of up conversion radios have generally offered a 20 kHz dynamic range in the 90s but a 2 kHz close-in dynamic range in the 70s. Typical degradation of dynamic range within the up conversion filter bandwidth is 25 dB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e buzz word is a 3-kHz roofing filter in up-conversion radios, though some are pure hyp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-7800 3-kHz filter is 5+ kHz wide.  FT-2000 3-kHz filter is 7 kHz wide, with worse IMD than its 6 kHz fil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3880" y="2057400"/>
            <a:ext cx="64008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not possible to offer CW bandwidth Roofing Filters at VHF (up-conversion) frequenc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and the K3 roofing filters are in the 8 to 9 MHz range, similar to the R-4C at 5 MHz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radios with no roofing filters at all are from Flex, like the 5000A.   It basically converts everything to audio and filters it in DSP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1606680"/>
            <a:ext cx="7696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or better @ 2 k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6 Sherwood / Drake R-4C: 84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1 Ten-Tec Omni-VI+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5 Ten-Tec Orion II: 95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Flex 5000A: 9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Ten-Tec Omni-VII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8 Elecraft K3: 101 dB (with 200 Hz roofing fil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66680" y="1600200"/>
            <a:ext cx="7543800" cy="77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at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8640" y="804960"/>
            <a:ext cx="7381080" cy="59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y Did I Start Testing Radio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d a new Drake R-4C in 197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t during the ARRL 160m CW con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adio performed miserably, y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s Were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0s: League expanded testing to include Noise Floor &amp; Dynamic Range, new concepts for the amateu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-4C tested well for Dynamic Range, but flunked CW contest 10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 the wrong thing being tested or did the test not approximate a real amateur environment, especially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W contest environ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" y="1371600"/>
            <a:ext cx="7391520" cy="228600"/>
            <a:chOff x="228600" y="1371600"/>
            <a:chExt cx="7391520" cy="228600"/>
          </a:xfrm>
        </p:grpSpPr>
        <p:sp>
          <p:nvSpPr>
            <p:cNvPr id="106" name=""/>
            <p:cNvSpPr/>
            <p:nvPr/>
          </p:nvSpPr>
          <p:spPr>
            <a:xfrm>
              <a:off x="60948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860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20 kHz 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st showed that in a multi-conversion radio, it was only testing the radio’s front e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first IF was 6 - 20 kHz wide, be it at 5 MHz, 9 MHz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45 - 70 MHz, the radio would overload in a CW pile u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kHz test show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int of the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Solution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test signals close together so they pas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IF Filt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ext Amplifi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x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-in dynamic range numbers ar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e than the wide-spaced numbers, for a radio with a single wide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2 Numbers are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ise Floo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ose-in Dynamic Rang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9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any filter bandwidth, CW or SSB, for examp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76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29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31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35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38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43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2280" y="1371600"/>
            <a:ext cx="7391520" cy="228600"/>
            <a:chOff x="152280" y="1371600"/>
            <a:chExt cx="7391520" cy="228600"/>
          </a:xfrm>
        </p:grpSpPr>
        <p:sp>
          <p:nvSpPr>
            <p:cNvPr id="149" name=""/>
            <p:cNvSpPr/>
            <p:nvPr/>
          </p:nvSpPr>
          <p:spPr>
            <a:xfrm>
              <a:off x="53316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5228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158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–12 k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166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f we could switch in a narrow Roofing Filter only slightly wider than the final selectivit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95600" y="87192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78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2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92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96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2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208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8-02-29T00:08:57Z</dcterms:modified>
  <cp:revision>162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