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AFB-2851-41B6-8867-6D0A276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0E1-51B9-40FF-8CF7-92832102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01F-BBA3-404F-80BE-34715439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ED-9531-4110-BC53-0B285E96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845F-8C79-4323-AD72-B8C3E712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9C1B-29DD-418A-B70D-91B27282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4B3-7C98-46A8-9804-24FACE2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EB3-3928-41C0-9891-FB59DD3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7F2-2CC7-4CDE-9268-F0BE291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A86B-B6BF-4162-B166-723BA4D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858-0B6F-4321-916B-8EEB2F2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6A9-9328-43F6-B169-036862A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74F8-8725-4066-9532-21A3BDB6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B17A-6DA0-4492-BACC-E040793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E8A-45EE-4DD9-BE3E-763312D0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7516-B672-40CF-88C8-13837B8C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6091-7381-4295-97E8-B338F747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BB-111F-42F0-AD80-AB953768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387-3298-46E4-8810-B6B80E2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260-6B59-4D2C-BF79-91460295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2F1-F64D-4E12-8D35-EB0318C5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F98-5D52-4789-BB1C-98C17B4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DAE-1120-4BF5-B321-383A1F0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744-AF37-4725-9A96-D7C73D0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1AD-C244-4161-99F1-401E14AE6F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00BF-1561-4445-8151-1AF5EA3AF9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 Black"/>
              </a:rPr>
              <a:t>DSP Radios 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Arial Black"/>
              </a:rPr>
              <a:t>Not Perfec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ton Drake Forum 200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693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er hybrid designs do not exhibit these bad AGC character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756 Pro, Pro II and Pro III are f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 rise transients are stretched by the IF filtering to 1 milliseco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R-4C has an R &amp; C in the AG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1 msec transient cannot charge up the 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AGC designs in DSP radios strongly react to the transi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tick”  may kick the S meter to S9 on newly designed radi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“tick” does not even move 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-4C S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new DSP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ch, 2006, sold two 706MkII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ught new IC-700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 interface is great. Easy to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ame AGC proble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 a different probl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C-70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s poorly in broadband noise, like Q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bile trip KS to 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0 meter CW, occasional QRN = S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ring phones, QRN very wide 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ashes way outside the 500 Hz CW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prove what I was hearing with my ea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2160" y="1006200"/>
            <a:ext cx="7600320" cy="2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P 3561A FFT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438280" y="6248160"/>
            <a:ext cx="5330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ept vs FFT Analy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641600"/>
            <a:ext cx="6933960" cy="42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29680" y="228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10400" y="2438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657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21400" y="3733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4343400" cy="2894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8800" y="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335268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4640" y="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8600" y="335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QR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2280" y="438120"/>
            <a:ext cx="4267440" cy="28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4343400" cy="2894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905120" y="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8600" y="3276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1400" y="335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ingle T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ow to Approximate Broadband Nois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sed 3 tone test to approximate broadband QR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69396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24280" y="3668760"/>
            <a:ext cx="4419720" cy="2944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77040" y="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62640" y="335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97360" y="335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 T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24280" y="372960"/>
            <a:ext cx="4419720" cy="2892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39200" y="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339000" y="291240"/>
            <a:ext cx="6427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hould you throw away your vintage radio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ahoo Icom reflector moderator says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what you think in a few minu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ere does that leave 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IF DSP designs seriously exaggerate transient noise on weak sign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DSP radios make QRN much wor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problem on unblankable line noi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457200"/>
            <a:ext cx="7924680" cy="838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re R&amp;D Departments                                          comparing old designs to new  desig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hams are noticing what I am describing,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y are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be some hams may have sold all their older radios and cannot comp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and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ways as noisy as the latest digital receivers make them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dividual radi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ke noise wor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you ready to sell your Drak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Maybe NOT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52720" cy="251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45600" y="1982880"/>
            <a:ext cx="685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86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www.sherwood-engineering.co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51814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www.NC0B.co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83059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ince you are here, you likely own a classic Drake radio from the 70s and 80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ast years I have given talks 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ance in Contest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day I am going to discuss a more subtl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Drake radios don’t have th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s designed 10 years ago don’t have th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hams are not catching on, and I don’t know wh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RL testing lab is missing it complete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89000" y="1012680"/>
            <a:ext cx="7586640" cy="3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the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new DSP designs in the past 3 years have AGC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least one new design “folds up” in QR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 testing is importa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have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radios, to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are serious problems getting past R&amp;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5840" y="1006200"/>
            <a:ext cx="7599960" cy="2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Fall of 200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ing to weak signals on 20 m. with a new DSP ra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ring annoying clicks, ticks, and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d to R-4C – No clicks, ticks or pops at 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-year-old Icom – No clicks, ticks, or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-Line – No clicks, ticks, or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95600" y="87192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50800" y="22096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l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IF DSP radios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manufacturers have the sam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GC problem on Fast Rise-Time Transient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ve fi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458200" cy="136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8381880" cy="1303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Normal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191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peech with AGC Interru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0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329640" y="281520"/>
            <a:ext cx="57614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ited description of AGC in new K3 from Elecraft web sit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16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the settings allow the AGC to be set up to tolerate very fast rise-time waveforms while responding [properly] to [normal signals]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34980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goes on to say the blanker can eliminate pops if they are a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on’t even notice the pops on older radios since they don’t false trigger the AG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can’t wait to listen to the K3 to see if they got it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7-06-06T03:28:21Z</dcterms:modified>
  <cp:revision>219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