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A3B-41A1-45DB-A06E-C8556DF7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B89-9211-4A71-9D5B-C6FEA43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BC4-BF56-409C-A019-9312811A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659-885C-401B-A9F8-889C0B1B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7B3-9009-455F-873C-3F2223A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611F-ECD1-4EF6-98B0-C3FEE45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AE00-D44A-452B-A5AB-799CF112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76D9-1F1D-4D29-A12E-524025E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606-7D88-48B7-9CB5-F1792086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F92D-4B0A-4EF0-8441-41ECAE39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19ED-F4AE-4DC4-AEB0-8120E23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604-52FC-4602-AE5C-51466DA1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BA6-A065-4ABE-A2D2-6FE4A3F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15D1-3BC0-442F-8AA3-FD0AD0C8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C49-8799-45D2-A26D-C05C716B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C1DC-CBFD-458D-A490-C565AE98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EFE0-48FC-48F5-A877-F6051444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138-628D-4583-ABA9-90FCA508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68D-8724-4744-8887-EFDD1D5A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B0E-B0DB-4E04-AE39-5DE1C22E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E7A-D29A-4AF8-8C7E-6B1CE22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85E-A2A0-487C-BC55-1246194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1F2-0585-4DC6-A504-58DDBBB3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D5C-3EAD-4C78-96BB-39CA748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6BA7-9972-4D63-B8AF-A520DA1826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7F0D-96C5-433A-8CBE-35CF1C1F8F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 Black"/>
              </a:rPr>
              <a:t>DSP Radios 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Arial Black"/>
              </a:rPr>
              <a:t>Not Perfec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ton Drake Forum 2007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693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der hybrid designs do not exhibit these bad AGC character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m 756 Pro, Pro II and Pro III are f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 rise transients are stretched by the IF filtering to 1 milliseco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R-4C has an R &amp; C in the AG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1 msec transient cannot charge up the 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AGC designs in DSP radios strongly react to the transi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“tick”  may kick the S meter to S9 on newly designed radi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“tick” does not even move 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-4C S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new DSP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ch, 2006, sold two 706MkII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ught new IC-700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man interface is great. Easy to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ame AGC problem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 a different probl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C-70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s poorly in broadband noise, like Q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bile trip KS to 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0 meter CW, occasional QRN = S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ring phones, QRN very wide 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ashes way outside the 500 Hz CW pass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prove what I was hearing with my ea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82160" y="1006200"/>
            <a:ext cx="7600320" cy="2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P 3561A FFT Analyz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438280" y="6248160"/>
            <a:ext cx="5330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ept vs FFT Analyz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641600"/>
            <a:ext cx="6933960" cy="42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29680" y="2286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10400" y="2438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65760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21400" y="3733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4343400" cy="2894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8800" y="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335268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4640" y="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38600" y="335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QR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2280" y="438120"/>
            <a:ext cx="4267440" cy="28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343400" cy="289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495680" cy="2995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800600" y="3733920"/>
            <a:ext cx="4343400" cy="2894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905120" y="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38600" y="3276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1400" y="335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ingle T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ow to Approximate Broadband Nois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Used 3 tone test to approximate broadband QR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369396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24280" y="3668760"/>
            <a:ext cx="4419720" cy="2944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77040" y="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-4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62640" y="335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97360" y="335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3 T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724280" y="372960"/>
            <a:ext cx="4419720" cy="2892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39200" y="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7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339000" y="291240"/>
            <a:ext cx="6427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hould you throw away your vintage radio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ahoo Icom reflector moderator says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e what you think in a few minut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ere does that leave 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IF DSP designs seriously exaggerate transient noise on weak sign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DSP radios make QRN much wor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problem on unblankable line noi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457200"/>
            <a:ext cx="7924680" cy="838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re R&amp;D Departments                                          comparing old designs to new  desig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hams are noticing what I am describing, b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y are 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be some hams may have sold all their older radios and cannot compa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band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ways as noisy as the latest digital receivers make them app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dividual radi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ke noise wor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you ready to sell your Drak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Maybe NOT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52720" cy="251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145600" y="1982880"/>
            <a:ext cx="685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886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www.sherwood-engineering.co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518148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www.NC0B.com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830592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ince you are here, you likely own a classic Drake radio from the 70s and 80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past years I have given talks 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Tes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ance in Contest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day I am going to discuss a more subtle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Drake radios don’t have the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s designed 10 years ago don’t have the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hams are not catching on, and I don’t know wh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RRL testing lab is missing it complete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89000" y="1012680"/>
            <a:ext cx="7586640" cy="31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the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new DSP designs in the past 3 years have AGC probl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 least one new design “folds up” in QR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b testing is importa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have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ST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radios, to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are serious problems getting past R&amp;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5840" y="1006200"/>
            <a:ext cx="7599960" cy="2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Fall of 2005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ing to weak signals on 20 m. with a new DSP ra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ring annoying clicks, ticks, and p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witched to R-4C – No clicks, ticks or pops at 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-year-old Icom – No clicks, ticks, or p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-Line – No clicks, ticks, or po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95600" y="87192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50800" y="22096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ll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IF DSP radios from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l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manufacturers have the sam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GC problem on Fast Rise-Time Transient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ve fi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458200" cy="136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8381880" cy="1303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Normal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191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peech with AGC Interru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0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329640" y="281520"/>
            <a:ext cx="57614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ited description of AGC in new K3 from Elecraft web sit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616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the settings allow the AGC to be set up to tolerate very fast rise-time waveforms while responding [properly] to [normal signals]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34980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goes on to say the blanker can eliminate pops if they are a probl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don’t even notice the pops on older radios since they don’t false trigger the AG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can’t wait to listen to the K3 to see if they got it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Terri &amp; Chris Cantrell</cp:lastModifiedBy>
  <dcterms:modified xsi:type="dcterms:W3CDTF">2007-06-06T03:28:21Z</dcterms:modified>
  <cp:revision>219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