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EA20-1DCC-4F47-8DF3-BD4065708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95600" y="597960"/>
            <a:ext cx="78570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8080" y="228564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838080" y="423108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9FD0-1031-45DB-8D45-34DC7FF30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95600" y="597960"/>
            <a:ext cx="78570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228564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80080" y="228564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38080" y="423108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80080" y="423108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1AE8-CBCB-430C-9ED1-696CB1F26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95600" y="597960"/>
            <a:ext cx="78570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38080" y="228564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439080" y="228564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40080" y="228564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838080" y="423108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439080" y="423108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40080" y="423108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75B8-E8FD-4639-A179-0EA3FD1B2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AE835-8ACE-4BC5-9289-8FB3EA4FB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95600" y="597960"/>
            <a:ext cx="78570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838080" y="2285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2978C-ED6C-495B-92C7-FE4E03AA4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95600" y="597960"/>
            <a:ext cx="78570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2285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ED424-06A4-458F-BFE3-BEED06D85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95600" y="597960"/>
            <a:ext cx="78570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28564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0080" y="228564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BEF8D-E5A8-4551-835E-44B2FD441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95600" y="597960"/>
            <a:ext cx="78570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64B97-EF13-4D1A-981F-CC26449C7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795600" y="719640"/>
            <a:ext cx="78570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8B61B-27D6-40A3-9076-3446DC483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95600" y="597960"/>
            <a:ext cx="78570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228564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80080" y="228564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23108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8454C-B168-4C46-B5E9-C37C2CE9A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95600" y="597960"/>
            <a:ext cx="78570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838080" y="2285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1621-64B2-4E8F-8F32-8ACB3CBED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95600" y="597960"/>
            <a:ext cx="78570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228564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80080" y="228564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80080" y="423108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8C8FE-4EB3-459C-8817-990B6C280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95600" y="597960"/>
            <a:ext cx="78570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228564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80080" y="228564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23108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797E6-FB9E-42E9-A3EB-2D6996389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95600" y="597960"/>
            <a:ext cx="78570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228564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838080" y="423108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A6CA4-74C8-45A4-9166-140B7BCB4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95600" y="597960"/>
            <a:ext cx="78570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28564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80080" y="228564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38080" y="423108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80080" y="423108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4099E-0484-45A0-918C-43C3E0FA3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95600" y="597960"/>
            <a:ext cx="78570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228564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39080" y="228564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40080" y="228564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838080" y="423108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439080" y="423108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40080" y="423108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41EBE-5F85-4199-BFF3-B71D5719B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95600" y="597960"/>
            <a:ext cx="78570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2285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282F-1FA5-4F52-AA41-F1ED788F5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95600" y="597960"/>
            <a:ext cx="78570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228564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80080" y="228564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1E61-A4A4-4059-86E4-62CC99472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95600" y="597960"/>
            <a:ext cx="78570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3122-0EAE-4176-8894-5217B66AF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795600" y="719640"/>
            <a:ext cx="78570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18CE-F748-4D1C-A6B5-F2D97C0ED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95600" y="597960"/>
            <a:ext cx="78570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228564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80080" y="228564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38080" y="423108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1F86-FEB6-4A93-B82F-F790EC10C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95600" y="597960"/>
            <a:ext cx="78570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8080" y="228564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80080" y="228564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80080" y="423108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DFED-A021-4467-A5E0-D0104B6CA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95600" y="597960"/>
            <a:ext cx="78570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8080" y="228564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80080" y="228564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38080" y="423108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BAB1-ED59-4AF7-91EE-C29413A31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457200" y="0"/>
              <a:ext cx="2743200" cy="1166760"/>
            </a:xfrm>
            <a:custGeom>
              <a:avLst/>
              <a:gdLst/>
              <a:ahLst/>
              <a:rect l="l" t="t" r="r" b="b"/>
              <a:pathLst>
                <a:path w="1728" h="735">
                  <a:moveTo>
                    <a:pt x="1728" y="0"/>
                  </a:moveTo>
                  <a:lnTo>
                    <a:pt x="1728" y="480"/>
                  </a:lnTo>
                  <a:lnTo>
                    <a:pt x="380" y="482"/>
                  </a:lnTo>
                  <a:lnTo>
                    <a:pt x="354" y="480"/>
                  </a:lnTo>
                  <a:lnTo>
                    <a:pt x="308" y="489"/>
                  </a:lnTo>
                  <a:cubicBezTo>
                    <a:pt x="290" y="498"/>
                    <a:pt x="263" y="513"/>
                    <a:pt x="246" y="531"/>
                  </a:cubicBezTo>
                  <a:cubicBezTo>
                    <a:pt x="229" y="549"/>
                    <a:pt x="215" y="574"/>
                    <a:pt x="206" y="597"/>
                  </a:cubicBezTo>
                  <a:cubicBezTo>
                    <a:pt x="197" y="620"/>
                    <a:pt x="194" y="643"/>
                    <a:pt x="192" y="666"/>
                  </a:cubicBezTo>
                  <a:lnTo>
                    <a:pt x="192" y="735"/>
                  </a:lnTo>
                  <a:lnTo>
                    <a:pt x="0" y="735"/>
                  </a:lnTo>
                  <a:lnTo>
                    <a:pt x="0" y="480"/>
                  </a:lnTo>
                  <a:lnTo>
                    <a:pt x="0" y="0"/>
                  </a:lnTo>
                  <a:lnTo>
                    <a:pt x="1728" y="0"/>
                  </a:lnTo>
                  <a:close/>
                </a:path>
              </a:pathLst>
            </a:cu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" name=""/>
          <p:cNvGrpSpPr/>
          <p:nvPr/>
        </p:nvGrpSpPr>
        <p:grpSpPr>
          <a:xfrm>
            <a:off x="228600" y="1219320"/>
            <a:ext cx="7391520" cy="228600"/>
            <a:chOff x="228600" y="1219320"/>
            <a:chExt cx="7391520" cy="228600"/>
          </a:xfrm>
        </p:grpSpPr>
        <p:sp>
          <p:nvSpPr>
            <p:cNvPr id="4" name=""/>
            <p:cNvSpPr/>
            <p:nvPr/>
          </p:nvSpPr>
          <p:spPr>
            <a:xfrm>
              <a:off x="609480" y="1219320"/>
              <a:ext cx="7010640" cy="22716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28600" y="1219320"/>
              <a:ext cx="393840" cy="22860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95600" y="719640"/>
            <a:ext cx="7857000" cy="4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838080" y="2285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D8117-B4DB-4F45-B90F-CB39F76F295C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57600" y="4343400"/>
            <a:ext cx="4876920" cy="228600"/>
            <a:chOff x="3657600" y="4343400"/>
            <a:chExt cx="4876920" cy="228600"/>
          </a:xfrm>
        </p:grpSpPr>
        <p:sp>
          <p:nvSpPr>
            <p:cNvPr id="51" name=""/>
            <p:cNvSpPr/>
            <p:nvPr/>
          </p:nvSpPr>
          <p:spPr>
            <a:xfrm flipH="1">
              <a:off x="3657600" y="4343400"/>
              <a:ext cx="4626000" cy="22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274240" y="4343400"/>
              <a:ext cx="260280" cy="22860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48F17-A375-4B79-8D11-F3AA2DE7DE7D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853200" y="1843560"/>
            <a:ext cx="7894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 Black"/>
              </a:rPr>
              <a:t>Roofing Filters, Transmitted BW and Receiver Performance</a:t>
            </a:r>
            <a:br>
              <a:rPr sz="4800"/>
            </a:br>
            <a:endParaRPr b="1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3300"/>
                </a:solidFill>
                <a:latin typeface="Arial Black"/>
              </a:rPr>
              <a:t>Rob Sherwood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3300"/>
                </a:solidFill>
                <a:latin typeface="Arial Black"/>
              </a:rPr>
              <a:t>NC</a:t>
            </a:r>
            <a:r>
              <a:rPr b="1" lang="en-US" sz="4000" spc="-1" strike="noStrike">
                <a:solidFill>
                  <a:srgbClr val="993300"/>
                </a:solidFill>
                <a:latin typeface="SimSun"/>
                <a:ea typeface="SimSun"/>
              </a:rPr>
              <a:t>Ø</a:t>
            </a:r>
            <a:r>
              <a:rPr b="0" lang="en-US" sz="3600" spc="-1" strike="noStrike">
                <a:solidFill>
                  <a:srgbClr val="993300"/>
                </a:solidFill>
                <a:latin typeface="Arial Black"/>
              </a:rPr>
              <a:t>B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85800" y="5105520"/>
            <a:ext cx="8229600" cy="990360"/>
          </a:xfrm>
          <a:prstGeom prst="roundRect">
            <a:avLst>
              <a:gd name="adj" fmla="val 50000"/>
            </a:avLst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’s important when it comes to choosing a radio?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-16200" y="6477120"/>
            <a:ext cx="2133000" cy="416520"/>
            <a:chOff x="-16200" y="6477120"/>
            <a:chExt cx="2133000" cy="41652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42840" y="6477120"/>
              <a:ext cx="157320" cy="3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-16200" y="6629400"/>
              <a:ext cx="213300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Impact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Impact"/>
                </a:rPr>
                <a:t>Sherwood Engineering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762120" y="588312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is keeps the undesired strong signals from progressing down stream to the next stag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62120" y="304920"/>
            <a:ext cx="304560" cy="304560"/>
          </a:xfrm>
          <a:prstGeom prst="flowChartMerge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94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57200" y="0"/>
              <a:ext cx="2743200" cy="1166760"/>
            </a:xfrm>
            <a:custGeom>
              <a:avLst/>
              <a:gdLst/>
              <a:ahLst/>
              <a:rect l="l" t="t" r="r" b="b"/>
              <a:pathLst>
                <a:path w="1728" h="735">
                  <a:moveTo>
                    <a:pt x="1728" y="0"/>
                  </a:moveTo>
                  <a:lnTo>
                    <a:pt x="1728" y="480"/>
                  </a:lnTo>
                  <a:lnTo>
                    <a:pt x="380" y="482"/>
                  </a:lnTo>
                  <a:lnTo>
                    <a:pt x="354" y="480"/>
                  </a:lnTo>
                  <a:lnTo>
                    <a:pt x="308" y="489"/>
                  </a:lnTo>
                  <a:cubicBezTo>
                    <a:pt x="290" y="498"/>
                    <a:pt x="263" y="513"/>
                    <a:pt x="246" y="531"/>
                  </a:cubicBezTo>
                  <a:cubicBezTo>
                    <a:pt x="229" y="549"/>
                    <a:pt x="215" y="574"/>
                    <a:pt x="206" y="597"/>
                  </a:cubicBezTo>
                  <a:cubicBezTo>
                    <a:pt x="197" y="620"/>
                    <a:pt x="194" y="643"/>
                    <a:pt x="192" y="666"/>
                  </a:cubicBezTo>
                  <a:lnTo>
                    <a:pt x="192" y="735"/>
                  </a:lnTo>
                  <a:lnTo>
                    <a:pt x="0" y="735"/>
                  </a:lnTo>
                  <a:lnTo>
                    <a:pt x="0" y="480"/>
                  </a:lnTo>
                  <a:lnTo>
                    <a:pt x="0" y="0"/>
                  </a:lnTo>
                  <a:lnTo>
                    <a:pt x="1728" y="0"/>
                  </a:lnTo>
                  <a:close/>
                </a:path>
              </a:pathLst>
            </a:cu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838080" y="1905120"/>
            <a:ext cx="8077320" cy="3733200"/>
            <a:chOff x="838080" y="1905120"/>
            <a:chExt cx="8077320" cy="3733200"/>
          </a:xfrm>
        </p:grpSpPr>
        <p:sp>
          <p:nvSpPr>
            <p:cNvPr id="197" name=""/>
            <p:cNvSpPr/>
            <p:nvPr/>
          </p:nvSpPr>
          <p:spPr>
            <a:xfrm>
              <a:off x="1295280" y="2506320"/>
              <a:ext cx="6553080" cy="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818480" y="1950840"/>
              <a:ext cx="1096920" cy="109656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Filter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500 Hz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Wid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514600" y="1905120"/>
              <a:ext cx="1096920" cy="109656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Filter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6–15 kHz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Wid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rot="16200000">
              <a:off x="4394880" y="1759320"/>
              <a:ext cx="1096560" cy="1479240"/>
            </a:xfrm>
            <a:prstGeom prst="flowChartMerge">
              <a:avLst/>
            </a:prstGeom>
            <a:solidFill>
              <a:srgbClr val="ffcc99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114800" y="2300040"/>
              <a:ext cx="12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Amplifier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38080" y="1950840"/>
              <a:ext cx="1096920" cy="1096560"/>
            </a:xfrm>
            <a:prstGeom prst="ellipse">
              <a:avLst/>
            </a:prstGeom>
            <a:solidFill>
              <a:srgbClr val="ffcc99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Mixer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172200" y="1950840"/>
              <a:ext cx="1096920" cy="1096560"/>
            </a:xfrm>
            <a:prstGeom prst="ellipse">
              <a:avLst/>
            </a:prstGeom>
            <a:solidFill>
              <a:srgbClr val="ffcc99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Mixer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04" name=""/>
            <p:cNvGrpSpPr/>
            <p:nvPr/>
          </p:nvGrpSpPr>
          <p:grpSpPr>
            <a:xfrm>
              <a:off x="2209680" y="2514240"/>
              <a:ext cx="304920" cy="2604960"/>
              <a:chOff x="2209680" y="2514240"/>
              <a:chExt cx="304920" cy="2604960"/>
            </a:xfrm>
          </p:grpSpPr>
          <p:sp>
            <p:nvSpPr>
              <p:cNvPr id="205" name=""/>
              <p:cNvSpPr/>
              <p:nvPr/>
            </p:nvSpPr>
            <p:spPr>
              <a:xfrm>
                <a:off x="2209680" y="2514240"/>
                <a:ext cx="0" cy="2604960"/>
              </a:xfrm>
              <a:prstGeom prst="line">
                <a:avLst/>
              </a:prstGeom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2209680" y="5104800"/>
                <a:ext cx="304920" cy="0"/>
              </a:xfrm>
              <a:prstGeom prst="line">
                <a:avLst/>
              </a:prstGeom>
              <a:ln w="2844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580920" y="2514240"/>
              <a:ext cx="305280" cy="2604960"/>
              <a:chOff x="3580920" y="2514240"/>
              <a:chExt cx="305280" cy="2604960"/>
            </a:xfrm>
          </p:grpSpPr>
          <p:sp>
            <p:nvSpPr>
              <p:cNvPr id="208" name=""/>
              <p:cNvSpPr/>
              <p:nvPr/>
            </p:nvSpPr>
            <p:spPr>
              <a:xfrm>
                <a:off x="3886200" y="2514240"/>
                <a:ext cx="0" cy="2604960"/>
              </a:xfrm>
              <a:prstGeom prst="line">
                <a:avLst/>
              </a:prstGeom>
              <a:ln w="28440">
                <a:solidFill>
                  <a:srgbClr val="003366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H="1">
                <a:off x="3580920" y="5104800"/>
                <a:ext cx="304920" cy="0"/>
              </a:xfrm>
              <a:prstGeom prst="line">
                <a:avLst/>
              </a:prstGeom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210" name=""/>
            <p:cNvSpPr/>
            <p:nvPr/>
          </p:nvSpPr>
          <p:spPr>
            <a:xfrm>
              <a:off x="2514600" y="4541760"/>
              <a:ext cx="1096920" cy="109656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Filter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600 Hz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Wid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838080" y="838080"/>
            <a:ext cx="83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at if we could switch in a narrow Roofing Filter only slightly wider than the final selectivity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213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57200" y="0"/>
              <a:ext cx="2743200" cy="1166760"/>
            </a:xfrm>
            <a:custGeom>
              <a:avLst/>
              <a:gdLst/>
              <a:ahLst/>
              <a:rect l="l" t="t" r="r" b="b"/>
              <a:pathLst>
                <a:path w="1728" h="735">
                  <a:moveTo>
                    <a:pt x="1728" y="0"/>
                  </a:moveTo>
                  <a:lnTo>
                    <a:pt x="1728" y="480"/>
                  </a:lnTo>
                  <a:lnTo>
                    <a:pt x="380" y="482"/>
                  </a:lnTo>
                  <a:lnTo>
                    <a:pt x="354" y="480"/>
                  </a:lnTo>
                  <a:lnTo>
                    <a:pt x="308" y="489"/>
                  </a:lnTo>
                  <a:cubicBezTo>
                    <a:pt x="290" y="498"/>
                    <a:pt x="263" y="513"/>
                    <a:pt x="246" y="531"/>
                  </a:cubicBezTo>
                  <a:cubicBezTo>
                    <a:pt x="229" y="549"/>
                    <a:pt x="215" y="574"/>
                    <a:pt x="206" y="597"/>
                  </a:cubicBezTo>
                  <a:cubicBezTo>
                    <a:pt x="197" y="620"/>
                    <a:pt x="194" y="643"/>
                    <a:pt x="192" y="666"/>
                  </a:cubicBezTo>
                  <a:lnTo>
                    <a:pt x="192" y="735"/>
                  </a:lnTo>
                  <a:lnTo>
                    <a:pt x="0" y="735"/>
                  </a:lnTo>
                  <a:lnTo>
                    <a:pt x="0" y="480"/>
                  </a:lnTo>
                  <a:lnTo>
                    <a:pt x="0" y="0"/>
                  </a:lnTo>
                  <a:lnTo>
                    <a:pt x="1728" y="0"/>
                  </a:lnTo>
                  <a:close/>
                </a:path>
              </a:pathLst>
            </a:cu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15" name=""/>
          <p:cNvSpPr txBox="1"/>
          <p:nvPr/>
        </p:nvSpPr>
        <p:spPr>
          <a:xfrm>
            <a:off x="824400" y="824400"/>
            <a:ext cx="81802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 Black"/>
              </a:rPr>
              <a:t>When are 2 Out of Pass Band Signals a Problem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62120" y="1640880"/>
            <a:ext cx="8305560" cy="23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31840" indent="-231840"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f you know the close-in dynamic range of a radio, at what signal level will IMD start to be a problem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31840" indent="-231840">
              <a:spcBef>
                <a:spcPts val="7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 Meter standard is  </a:t>
            </a: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S9 = 50 </a:t>
            </a:r>
            <a:r>
              <a:rPr b="0" lang="en-US" sz="2400" spc="-1" strike="noStrike">
                <a:solidFill>
                  <a:srgbClr val="9933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V,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 which is   </a:t>
            </a: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–73 dBm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31840" indent="-231840">
              <a:spcBef>
                <a:spcPts val="624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ssume a typical radio:</a:t>
            </a:r>
            <a:br>
              <a:rPr sz="2400"/>
            </a:br>
            <a:r>
              <a:rPr b="0" lang="en-US" sz="1200" spc="-1" strike="noStrike" baseline="30000">
                <a:solidFill>
                  <a:srgbClr val="ff0000"/>
                </a:solidFill>
                <a:latin typeface="Wingdings 3"/>
                <a:ea typeface="Wingdings 3"/>
              </a:rPr>
              <a:t></a:t>
            </a:r>
            <a:r>
              <a:rPr b="0" lang="en-US" sz="1200" spc="-1" strike="noStrike" baseline="30000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500 Hz CW filter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200" spc="-1" strike="noStrike" baseline="30000">
                <a:solidFill>
                  <a:srgbClr val="ff0000"/>
                </a:solidFill>
                <a:latin typeface="Wingdings 3"/>
                <a:ea typeface="Wingdings 3"/>
              </a:rPr>
              <a:t>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Noise Floor of -128 dBm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200" spc="-1" strike="noStrike" baseline="30000">
                <a:solidFill>
                  <a:srgbClr val="ff0000"/>
                </a:solidFill>
                <a:latin typeface="Wingdings 3"/>
                <a:ea typeface="Wingdings 3"/>
              </a:rPr>
              <a:t></a:t>
            </a:r>
            <a:r>
              <a:rPr b="0" lang="en-US" sz="1200" spc="-1" strike="noStrike" baseline="30000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reamp OFF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228600" y="1676520"/>
            <a:ext cx="7391520" cy="152280"/>
            <a:chOff x="228600" y="1676520"/>
            <a:chExt cx="7391520" cy="152280"/>
          </a:xfrm>
        </p:grpSpPr>
        <p:sp>
          <p:nvSpPr>
            <p:cNvPr id="218" name=""/>
            <p:cNvSpPr/>
            <p:nvPr/>
          </p:nvSpPr>
          <p:spPr>
            <a:xfrm>
              <a:off x="609480" y="1676520"/>
              <a:ext cx="7010640" cy="15156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228600" y="1676520"/>
              <a:ext cx="393840" cy="15228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1905120" y="3753720"/>
            <a:ext cx="6933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4520"/>
                <a:tab algn="l" pos="1828800"/>
                <a:tab algn="l" pos="2860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99"/>
                </a:solidFill>
                <a:latin typeface="Arial Narrow"/>
              </a:rPr>
              <a:t>Dynamic Range</a:t>
            </a:r>
            <a:r>
              <a:rPr b="1" lang="en-US" sz="1800" spc="-1" strike="noStrike">
                <a:solidFill>
                  <a:srgbClr val="666699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666699"/>
                </a:solidFill>
                <a:latin typeface="Arial Narrow"/>
              </a:rPr>
              <a:t>Signal Level Causing IMD = Noise Floo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1828800"/>
                <a:tab algn="l" pos="2860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55 dB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9          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FT-757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1828800"/>
                <a:tab algn="l" pos="2860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60 dB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9 + 5 dB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FT-101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1828800"/>
                <a:tab algn="l" pos="2860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65 dB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9 + 10 dB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KWM-38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1828800"/>
                <a:tab algn="l" pos="2860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70 dB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9 + 15 dB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S-83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1828800"/>
                <a:tab algn="l" pos="2860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75 dB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9 + 20 dB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756 Pro II / III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1828800"/>
                <a:tab algn="l" pos="2860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80 dB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9 + 25 dB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mni-VII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1828800"/>
                <a:tab algn="l" pos="2860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85 dB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9 + 30 dB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950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1828800"/>
                <a:tab algn="l" pos="2860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90 dB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9 + 35 dB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rion I (93 dB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1828800"/>
                <a:tab algn="l" pos="2860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95 dB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9 + 40 dB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rion II &amp; Flex 5000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1828800"/>
                <a:tab algn="l" pos="2860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00 dB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9 + 45 dB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K3 (95 to 101 dB)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719280" y="795600"/>
            <a:ext cx="7857000" cy="4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DR3 “window” is not fixe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838080" y="2057400"/>
            <a:ext cx="807732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dynamic range of a radio is the same with an attenuator ON or OFF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f on a noisy band, attenuate the noise and all signals to make better use of the dynamic range, and reduce the chance of overload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f band noise goes from S6 to S2 by turning on the attenuator, you have lost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nothing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, yet your radio is being stressed much less.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1024200" y="795600"/>
            <a:ext cx="7857000" cy="4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A Comment on IP3 (3</a:t>
            </a:r>
            <a:r>
              <a:rPr b="1" lang="en-US" sz="3200" spc="-1" strike="noStrike" baseline="30000">
                <a:solidFill>
                  <a:srgbClr val="006666"/>
                </a:solidFill>
                <a:latin typeface="Arial"/>
              </a:rPr>
              <a:t>rd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Order Intercept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143000" y="1523880"/>
            <a:ext cx="769608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 don’t publish IP3.  It is a theoretical number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t has more meaning for a block amplifier or mixer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lmost meaningless if the AGC of a receiver is involve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ctober 2007 QST Product Review FT-2000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R3 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Spacing    Level  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P3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98 dB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20 kHz      Noise Floor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+25 dB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69 dB    2 kHz       Noise Floor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-19 dB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29 dB    2 kHz       0 dBm = S9+73 dB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+15 dBm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                       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719280" y="795600"/>
            <a:ext cx="7857000" cy="4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Attenuators, Preamps &amp; IP3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914400" y="1676520"/>
            <a:ext cx="8001000" cy="61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ynamic range is constant if you enable an attenuator and often constant even with preamp enabled.  IP3 varies all over the map.  Data from March QST 2008 FT-950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Gain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ynamic Range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P3 dB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e 2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95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+4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(published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e 1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95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+13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(published)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o Preamp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94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+22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(published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tt 6 dB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94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+28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(calculated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tt 12 dB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94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+34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(calculated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tt 18 dB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94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+40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(calculated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795600" y="795600"/>
            <a:ext cx="7857000" cy="4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Comments on Blocking &amp; Phase Nois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62120" y="1752480"/>
            <a:ext cx="815328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locking is the onset of gain compression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is can be an issue with another ham withi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“line-of-site”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t is an issue o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ield Day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ulti-multi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contest station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ow phase noise is desirable, but a very good low phase-noise receiver has to contend with transmitted phase noise.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ealing with transmitted phase noise is like dealing with transmitted IMD products and splatter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e cannot do much about it.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871920" y="795600"/>
            <a:ext cx="7857360" cy="4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ets now move from CW to SSB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371600" y="198108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y are the dynamic range requirements less stringent on SSB than on CW?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752760" y="1514880"/>
            <a:ext cx="8095680" cy="3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3200040" y="3809880"/>
            <a:ext cx="15238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8305920" cy="518148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523880" y="106668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Transmitted IMD Collins 32S-3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257800" y="380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-36 dB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5367600" y="414720"/>
            <a:ext cx="1532520" cy="4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-27 dB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838080" y="1447560"/>
            <a:ext cx="76932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olid-State Transceiver on 20 meter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990720" y="1981080"/>
            <a:ext cx="7848360" cy="4724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719280" y="795600"/>
            <a:ext cx="7857000" cy="4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Yaesu FT-1000 Mk V in Class 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2514600" y="152388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ovided by Pete, W6XX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848720" cy="47246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5486400" y="2286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-42 dB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728640" y="804960"/>
            <a:ext cx="7381080" cy="599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 Black"/>
              </a:rPr>
              <a:t>Why Did I Start Testing Radios 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251"/>
              </a:spcBef>
              <a:buClr>
                <a:srgbClr val="0066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urchased a new Drake R-4C in 1972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28600" indent="-228600">
              <a:spcBef>
                <a:spcPts val="2251"/>
              </a:spcBef>
              <a:buClr>
                <a:srgbClr val="0066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sed it during the ARRL 160m CW contes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28600" indent="-228600">
              <a:spcBef>
                <a:spcPts val="2251"/>
              </a:spcBef>
              <a:buClr>
                <a:srgbClr val="0066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Radio performed miserably, yet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pecs Were Goo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28600" indent="-228600">
              <a:spcBef>
                <a:spcPts val="2251"/>
              </a:spcBef>
              <a:buClr>
                <a:srgbClr val="0066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1970s: League expanded testing to include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Noise Floor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&amp;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Dynamic Range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, new concepts for the amateur.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28600" indent="-228600">
              <a:spcBef>
                <a:spcPts val="2251"/>
              </a:spcBef>
              <a:buClr>
                <a:srgbClr val="0066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-4C tested well for Dynamic Range, but flunked CW contest 101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28600" indent="-228600">
              <a:spcBef>
                <a:spcPts val="2251"/>
              </a:spcBef>
              <a:buClr>
                <a:srgbClr val="0066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ARRL dynamic range test did not approximate a real-world environment, especially in a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W contest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03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57200" y="0"/>
              <a:ext cx="2743200" cy="1166760"/>
            </a:xfrm>
            <a:custGeom>
              <a:avLst/>
              <a:gdLst/>
              <a:ahLst/>
              <a:rect l="l" t="t" r="r" b="b"/>
              <a:pathLst>
                <a:path w="1728" h="735">
                  <a:moveTo>
                    <a:pt x="1728" y="0"/>
                  </a:moveTo>
                  <a:lnTo>
                    <a:pt x="1728" y="480"/>
                  </a:lnTo>
                  <a:lnTo>
                    <a:pt x="380" y="482"/>
                  </a:lnTo>
                  <a:lnTo>
                    <a:pt x="354" y="480"/>
                  </a:lnTo>
                  <a:lnTo>
                    <a:pt x="308" y="489"/>
                  </a:lnTo>
                  <a:cubicBezTo>
                    <a:pt x="290" y="498"/>
                    <a:pt x="263" y="513"/>
                    <a:pt x="246" y="531"/>
                  </a:cubicBezTo>
                  <a:cubicBezTo>
                    <a:pt x="229" y="549"/>
                    <a:pt x="215" y="574"/>
                    <a:pt x="206" y="597"/>
                  </a:cubicBezTo>
                  <a:cubicBezTo>
                    <a:pt x="197" y="620"/>
                    <a:pt x="194" y="643"/>
                    <a:pt x="192" y="666"/>
                  </a:cubicBezTo>
                  <a:lnTo>
                    <a:pt x="192" y="735"/>
                  </a:lnTo>
                  <a:lnTo>
                    <a:pt x="0" y="735"/>
                  </a:lnTo>
                  <a:lnTo>
                    <a:pt x="0" y="480"/>
                  </a:lnTo>
                  <a:lnTo>
                    <a:pt x="0" y="0"/>
                  </a:lnTo>
                  <a:lnTo>
                    <a:pt x="1728" y="0"/>
                  </a:lnTo>
                  <a:close/>
                </a:path>
              </a:pathLst>
            </a:cu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228600" y="1371600"/>
            <a:ext cx="7391520" cy="228600"/>
            <a:chOff x="228600" y="1371600"/>
            <a:chExt cx="7391520" cy="228600"/>
          </a:xfrm>
        </p:grpSpPr>
        <p:sp>
          <p:nvSpPr>
            <p:cNvPr id="106" name=""/>
            <p:cNvSpPr/>
            <p:nvPr/>
          </p:nvSpPr>
          <p:spPr>
            <a:xfrm>
              <a:off x="609480" y="1371600"/>
              <a:ext cx="7010640" cy="22716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228600" y="1371600"/>
              <a:ext cx="393840" cy="22860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1252800" y="795600"/>
            <a:ext cx="7857000" cy="4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Mk V Class A + 8877 Linear Amplifier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924680" cy="502920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5334120" y="2286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-40 dB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605880" y="2358000"/>
            <a:ext cx="762768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ompare the Old vs. New</a:t>
            </a:r>
            <a:br>
              <a:rPr sz="3600"/>
            </a:b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1599840" y="2971800"/>
            <a:ext cx="6553080" cy="17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Order   Collins   Yaesu  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Difference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IMD</a:t>
            </a: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    32S-3   FT-450       in dB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QS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3</a:t>
            </a:r>
            <a:r>
              <a:rPr b="0" lang="en-US" sz="2800" spc="-1" strike="noStrike" baseline="30000">
                <a:solidFill>
                  <a:srgbClr val="006666"/>
                </a:solidFill>
                <a:latin typeface="Arial"/>
              </a:rPr>
              <a:t>rd</a:t>
            </a: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  -42 dB    -30 dB   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2</a:t>
            </a: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 dB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5</a:t>
            </a:r>
            <a:r>
              <a:rPr b="0" lang="en-US" sz="2800" spc="-1" strike="noStrike" baseline="30000">
                <a:solidFill>
                  <a:srgbClr val="006666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  -53 dB    -37 dB   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6</a:t>
            </a: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 dB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7</a:t>
            </a:r>
            <a:r>
              <a:rPr b="0" lang="en-US" sz="2800" spc="-1" strike="noStrike" baseline="30000">
                <a:solidFill>
                  <a:srgbClr val="006666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       -66 dB    -42 dB   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4</a:t>
            </a: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 dB  (Note)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9</a:t>
            </a:r>
            <a:r>
              <a:rPr b="0" lang="en-US" sz="2800" spc="-1" strike="noStrike" baseline="30000">
                <a:solidFill>
                  <a:srgbClr val="006666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  -77 dB    -48 dB   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9</a:t>
            </a: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 dB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1688760" y="1752480"/>
            <a:ext cx="54111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 Black"/>
              </a:rPr>
              <a:t>Close-in Signal and Splatter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297440" y="5715000"/>
            <a:ext cx="728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F Filter vs. Adjacent Signal and IMD Splatt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886200" y="3200400"/>
            <a:ext cx="23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Signal 5 kHz Awa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676520" y="5562720"/>
            <a:ext cx="43434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083120" y="46483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800600" y="5334120"/>
            <a:ext cx="1440" cy="2286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2209680" y="3962520"/>
            <a:ext cx="3276720" cy="160020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3809880" y="2819520"/>
            <a:ext cx="0" cy="274320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4572000" y="4648320"/>
            <a:ext cx="76320" cy="9144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648320" y="4648320"/>
            <a:ext cx="30456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952880" y="4648320"/>
            <a:ext cx="76320" cy="9144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09880" y="3886200"/>
            <a:ext cx="1067040" cy="0"/>
          </a:xfrm>
          <a:prstGeom prst="line">
            <a:avLst/>
          </a:prstGeom>
          <a:ln w="2844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952880" y="5029200"/>
            <a:ext cx="1295640" cy="0"/>
          </a:xfrm>
          <a:prstGeom prst="line">
            <a:avLst/>
          </a:prstGeom>
          <a:ln w="38160">
            <a:solidFill>
              <a:srgbClr val="ff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324480" y="480060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-60 dB, 7</a:t>
            </a:r>
            <a:r>
              <a:rPr b="0" lang="en-US" sz="2400" spc="-1" strike="noStrike" baseline="30000">
                <a:solidFill>
                  <a:srgbClr val="ff66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 Ord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490680" y="795600"/>
            <a:ext cx="7857000" cy="4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teady-State vs. Dynamic Splatter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838080" y="1676520"/>
            <a:ext cx="7693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ome transceivers, in addition to normal IMD products, produce additional ALC-Induced splatter.  On CW the ALC can cause leading-edge key click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LCs could be driven hard in a 32S-3 or a T-4XC, for example, and not add to splatter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ome modern rigs splatter more if the ALC is more than “tickled”, or induce clicks on CW.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League has chosen not to address this problem in its equipment reviews.  SM5BSZ &amp; I tried to no avail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61760" y="6854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 Black"/>
              </a:rPr>
              <a:t>How Many Roofing Filters are Needed?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It depends on your mode of operatio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81160" indent="-281160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6633"/>
                </a:solidFill>
                <a:latin typeface="Arial"/>
              </a:rPr>
              <a:t>For SSB, a single 15 kHz roofing filter is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dequate</a:t>
            </a:r>
            <a:r>
              <a:rPr b="1" lang="en-US" sz="2000" spc="-1" strike="noStrike">
                <a:solidFill>
                  <a:srgbClr val="996633"/>
                </a:solidFill>
                <a:latin typeface="Arial"/>
              </a:rPr>
              <a:t>, such as in the Icom 756 Pro II / Pro III with a close-in dynamic range of 75 dB.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81160" indent="-281160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6633"/>
                </a:solidFill>
                <a:latin typeface="Arial"/>
              </a:rPr>
              <a:t>Other radios with similar performance: Drake R7 and TR7, IC-781, Collins 75S-3B/C, TS-930, FT-1000x, T-T Omni-V or VI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81160" indent="-281160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Would a 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2.7 kHz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roofing filter be 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better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?</a:t>
            </a:r>
            <a:r>
              <a:rPr b="1" lang="en-US" sz="2000" spc="-1" strike="noStrike">
                <a:solidFill>
                  <a:srgbClr val="996633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81160" indent="-281160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Yes, K3, Orion, Omni-VII or non-DSP Hilberling PT-8000A.</a:t>
            </a:r>
            <a:r>
              <a:rPr b="1" lang="en-US" sz="2000" spc="-1" strike="noStrike">
                <a:solidFill>
                  <a:srgbClr val="996633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81160" indent="-281160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On CW, a singl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ide</a:t>
            </a: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 roofing filter is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</a:t>
            </a: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 optimum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81160" indent="-281160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CW signals do not have IMD products. Strong adjacent signals do not have as much energy in the CW passband of your filter.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81160" indent="-281160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W Signal</a:t>
            </a: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 Does have a Bandwidth.  It is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 zero bandwidth</a:t>
            </a: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871920" y="871920"/>
            <a:ext cx="7857360" cy="4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oofing Filter BW on SSB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990720" y="1752480"/>
            <a:ext cx="784836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o you need more than one SSB BW Filter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est if Roofing &amp; DSP bandwidths are equal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ore selectivity up front is always desirabl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etter shape factor than depending of last IF only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mni-VII the 455 kHz filters really help total selectivity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rion &amp; K3 both offer a 1.8 kHz roofing filter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duces load on DSP !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Just not a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ramatic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improvement as on CW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947880" y="795600"/>
            <a:ext cx="7857000" cy="4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ack to CW signal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219320" y="1905120"/>
            <a:ext cx="67816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e have seen how width of an SSB signal &amp; its IMD products affects how close you can operate to another station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ow does CW compare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ow close can we work to a strong adjacent CW signal?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1043280" y="510120"/>
            <a:ext cx="7818840" cy="7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What is the Bandwidth of CW Signal?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838080" y="1600200"/>
            <a:ext cx="7693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On channel signal = S9 + 40 dB (-33 dBm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Receiver = K3, 400 Hz 8-pole roofing + 400 Hz DSP Filte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Transmitter = Omni-VII with adjustable rise tim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Undesired signal 700 Hz away, continuous “dits” at 30 wp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Rise time of Omni-VII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Strength of CW sidebands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Signal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S9 + 40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-33 dBm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Ref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3 msec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S7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-83 dBm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-50 dB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4 msec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S6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-88 dB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5 msec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S6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-88 dB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6 msec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S5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-93 dBm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22  dB !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7 msec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S4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-99 dB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8 msec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S4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-99 dB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9 msec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S4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-99 dB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10 msec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S3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-105 dBm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72 dB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96080" y="4038480"/>
            <a:ext cx="0" cy="1828800"/>
          </a:xfrm>
          <a:prstGeom prst="line">
            <a:avLst/>
          </a:prstGeom>
          <a:ln w="93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795600" y="719640"/>
            <a:ext cx="7857000" cy="4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Spectrum of CW Signal on HP 3585A Analyzer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914400" y="156060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ise Time 10 msec, “dits” at 30 WPM, Bandwidth -70 dB = +/- 450 Hz = 900 Hz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990720" y="2514600"/>
            <a:ext cx="7848360" cy="434340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4343400" y="5715000"/>
            <a:ext cx="106668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795600" y="719640"/>
            <a:ext cx="7857000" cy="4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Spectrum of CW Signal on HP 3585A Analyzer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914400" y="156060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ise Time 3 msec, “dits” at 30 WPM, Bandwidth -70 dB = +/- 750 Hz = 1500 Hz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914400" y="2590920"/>
            <a:ext cx="8001000" cy="426708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3886200" y="5638680"/>
            <a:ext cx="205740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762120" y="1828800"/>
            <a:ext cx="70866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914040"/>
            <a:ext cx="83059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2251"/>
              </a:spcBef>
              <a:buClr>
                <a:srgbClr val="006666"/>
              </a:buClr>
              <a:buSzPct val="75000"/>
              <a:buFont typeface="Arial"/>
              <a:buChar char="•"/>
              <a:tabLst>
                <a:tab algn="l" pos="171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ynamic Range - measures the ability to hear</a:t>
            </a: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weak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ignals</a:t>
            </a: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 the present of</a:t>
            </a: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near-by strong</a:t>
            </a: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ignals.</a:t>
            </a: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2251"/>
              </a:spcBef>
              <a:buClr>
                <a:srgbClr val="006666"/>
              </a:buClr>
              <a:buSzPct val="75000"/>
              <a:buFont typeface="Arial"/>
              <a:buChar char="•"/>
              <a:tabLst>
                <a:tab algn="l" pos="171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A 20 kHz Dynamic Range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measurement in a multi-conversion radio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nly tests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the radio’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ront end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2251"/>
              </a:spcBef>
              <a:buClr>
                <a:srgbClr val="006666"/>
              </a:buClr>
              <a:buSzPct val="75000"/>
              <a:buFont typeface="Arial"/>
              <a:buChar char="•"/>
              <a:tabLst>
                <a:tab algn="l" pos="171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f the first IF was 6 - 20 kHz wide, be it at 5 MHz, 9 MHz 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r 45 - 70 MHz, the radio could overload in a CW pile up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2251"/>
              </a:spcBef>
              <a:buClr>
                <a:srgbClr val="006666"/>
              </a:buClr>
              <a:buSzPct val="75000"/>
              <a:buFont typeface="Arial"/>
              <a:buChar char="•"/>
              <a:tabLst>
                <a:tab algn="l" pos="171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0 kHz dynamic range test showed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no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hint of the proble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2251"/>
              </a:spcBef>
              <a:buClr>
                <a:srgbClr val="006666"/>
              </a:buClr>
              <a:buSzPct val="75000"/>
              <a:buFont typeface="Arial"/>
              <a:buChar char="•"/>
              <a:tabLst>
                <a:tab algn="l" pos="171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3300"/>
                </a:solidFill>
                <a:latin typeface="Arial"/>
              </a:rPr>
              <a:t>Solution</a:t>
            </a: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Place test signals close together so they pass throug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st IF Filter </a:t>
            </a:r>
            <a:r>
              <a:rPr b="1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he Next Amplifier </a:t>
            </a:r>
            <a:r>
              <a:rPr b="1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ix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2251"/>
              </a:spcBef>
              <a:buClr>
                <a:srgbClr val="006666"/>
              </a:buClr>
              <a:buSzPct val="75000"/>
              <a:buFont typeface="Arial"/>
              <a:buChar char="•"/>
              <a:tabLst>
                <a:tab algn="l" pos="171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lose-in dynamic range numbers are </a:t>
            </a:r>
            <a:r>
              <a:rPr b="1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ALWAYS</a:t>
            </a: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orse than the wide-spaced numbers, for a radio with a single wide roofing filter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1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57200" y="0"/>
              <a:ext cx="2743200" cy="1166760"/>
            </a:xfrm>
            <a:custGeom>
              <a:avLst/>
              <a:gdLst/>
              <a:ahLst/>
              <a:rect l="l" t="t" r="r" b="b"/>
              <a:pathLst>
                <a:path w="1728" h="735">
                  <a:moveTo>
                    <a:pt x="1728" y="0"/>
                  </a:moveTo>
                  <a:lnTo>
                    <a:pt x="1728" y="480"/>
                  </a:lnTo>
                  <a:lnTo>
                    <a:pt x="380" y="482"/>
                  </a:lnTo>
                  <a:lnTo>
                    <a:pt x="354" y="480"/>
                  </a:lnTo>
                  <a:lnTo>
                    <a:pt x="308" y="489"/>
                  </a:lnTo>
                  <a:cubicBezTo>
                    <a:pt x="290" y="498"/>
                    <a:pt x="263" y="513"/>
                    <a:pt x="246" y="531"/>
                  </a:cubicBezTo>
                  <a:cubicBezTo>
                    <a:pt x="229" y="549"/>
                    <a:pt x="215" y="574"/>
                    <a:pt x="206" y="597"/>
                  </a:cubicBezTo>
                  <a:cubicBezTo>
                    <a:pt x="197" y="620"/>
                    <a:pt x="194" y="643"/>
                    <a:pt x="192" y="666"/>
                  </a:cubicBezTo>
                  <a:lnTo>
                    <a:pt x="192" y="735"/>
                  </a:lnTo>
                  <a:lnTo>
                    <a:pt x="0" y="735"/>
                  </a:lnTo>
                  <a:lnTo>
                    <a:pt x="0" y="480"/>
                  </a:lnTo>
                  <a:lnTo>
                    <a:pt x="0" y="0"/>
                  </a:lnTo>
                  <a:lnTo>
                    <a:pt x="1728" y="0"/>
                  </a:lnTo>
                  <a:close/>
                </a:path>
              </a:pathLst>
            </a:cu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795600" y="719640"/>
            <a:ext cx="7857000" cy="4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Spectrum of CW Signal on HP 3585A Analyzer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600200" y="167652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mparison of 3 msec vs 10 msec rise time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1066680" y="2209680"/>
            <a:ext cx="7848720" cy="464832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 flipV="1">
            <a:off x="5715000" y="4876560"/>
            <a:ext cx="152280" cy="14475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324480" y="4876920"/>
            <a:ext cx="152640" cy="1371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867280" y="4876920"/>
            <a:ext cx="4572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95880" y="5410080"/>
            <a:ext cx="0" cy="762120"/>
          </a:xfrm>
          <a:prstGeom prst="line">
            <a:avLst/>
          </a:prstGeom>
          <a:ln w="5724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705720" y="4419720"/>
            <a:ext cx="213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20 dB differen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795600" y="795600"/>
            <a:ext cx="7857000" cy="4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eading edge of “dit”  3 &amp; 10 msec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3810240" cy="495288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2"/>
          <a:stretch/>
        </p:blipFill>
        <p:spPr>
          <a:xfrm>
            <a:off x="4724280" y="1676520"/>
            <a:ext cx="4191120" cy="47242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834480" y="1519920"/>
            <a:ext cx="793224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ow Many Poles Are Needed for a     narrow CW roofing filter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/>
          </p:nvPr>
        </p:nvSpPr>
        <p:spPr>
          <a:xfrm>
            <a:off x="838080" y="2590920"/>
            <a:ext cx="7693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rion II 600 Hz 4-pole filter is - 30 dB @ +/-700 Hz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rion II 600 Hz 4-pole filter is – 50 dB @ +/-1200 Hz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 signal 2-kHz away is in the stop band of any filter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ypical CW signal is +/- 700 Hz wide at –70 dB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Orion II uses 4-pole roofing filter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herwood has used a 6-pole filter for 32 year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lecraft uses both 5 and 8-pole filter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 see no significant advantage of one choice over another.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947880" y="795600"/>
            <a:ext cx="7857000" cy="4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More Data on the K3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914400" y="1752480"/>
            <a:ext cx="80010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oofing Filter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ynamic Range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oise Limited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200 Hz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101 dB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Y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250 Hz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98 dB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ostly *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400 Hz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96 dB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ostly *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500 Hz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95 dB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ostly *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* Mostly = IMD audible, but noise predominate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1047960" y="2114640"/>
            <a:ext cx="7199640" cy="49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From a Dynamic Range standpoint, reducing a strong adjacent signal 30 dB with a roofing filter is adequate. 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All the roofing filters from Ten-Tec, Elecraft, or Sherwood do the job.  More poles have more insertion loss and cost more.  Its a trade-off.    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Compared to a 15 kHz roofing filter, a 500 Hz CW roofing filters will pass about 3% of those signals on to the later stages of the radio. 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You likely cannot work a weak signal 1 kHz from an S9 +40 dB CW signal with any radio with the best roofing filter due to the transmitted bandwidth of the interfering signal. </a:t>
            </a:r>
            <a:br>
              <a:rPr sz="2400"/>
            </a:b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066680" y="76212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Just the fac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8080" y="762120"/>
            <a:ext cx="792504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 Black"/>
              </a:rPr>
              <a:t>Conclusion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76212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501"/>
              </a:spcBef>
              <a:buClr>
                <a:srgbClr val="0066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testers – DXers – Pileup operators need a good receiver for SSB and an even better receiver for CW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501"/>
              </a:spcBef>
              <a:buClr>
                <a:srgbClr val="0066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Sherwood 600-Hz CW roofing filter fixed the R-4C in 1976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501"/>
              </a:spcBef>
              <a:buClr>
                <a:srgbClr val="0066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en-Tec Orion put that concept in a commercial design in 2003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501"/>
              </a:spcBef>
              <a:buClr>
                <a:srgbClr val="0066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lecraft K3 now also offers multiple roofing filters in 2008.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838080" y="1447920"/>
            <a:ext cx="7925040" cy="63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buClr>
                <a:srgbClr val="00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25 years of up conversion radios have generally offered a 20 kHz dynamic range in the 90s but a 2 kHz close-in dynamic range in the 70s. Typical degradation of dynamic range within the up conversion filter bandwidth is 25 dB.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2999"/>
              </a:spcBef>
              <a:buClr>
                <a:srgbClr val="00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ow the buzz word is a 3-kHz roofing filter in up-conversion radios, though filter is often wider than spec.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2999"/>
              </a:spcBef>
              <a:buClr>
                <a:srgbClr val="00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C-7800 3-kHz filter is 5+ kHz wide, 6-kHz is 11+ kHz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2999"/>
              </a:spcBef>
              <a:buClr>
                <a:srgbClr val="00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T-2000 3-kHz filter is 7 kHz wide, and with my sample, it had 9 dB worse IMD than its 6 kHz filter.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2999"/>
              </a:spcBef>
              <a:buClr>
                <a:srgbClr val="00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2999"/>
              </a:spcBef>
              <a:buClr>
                <a:srgbClr val="00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1523880" y="1471680"/>
            <a:ext cx="6400800" cy="59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t is not possible to offer CW bandwidth Roofing Filters at VHF frequencie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t all comes down to fractional bandwidth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 500-Hz filter at 5 MHz is like a 1-kHz filter at 10 MHz, or a 2 kHz filter at 20 MHz or a 4 kHz filter at 40 MHz &amp; an 8 kHz filter at 80 MHz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Tdx-9000 IF = 40 MHz, 3-kHz reasonabl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T-2000 IF = 70 MHz, “3 kHz” = 7 kHz wid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Orion II and the K3 roofing filters are in the 8 to 9 MHz range, similar to the R-4C at 5 MHz.  Narrow filters are no problem here. 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00200" y="7621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ow Narrow Can a VHF Filter Be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 txBox="1"/>
          <p:nvPr/>
        </p:nvSpPr>
        <p:spPr>
          <a:xfrm>
            <a:off x="1252800" y="795600"/>
            <a:ext cx="7857000" cy="4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Flex Radio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295280" y="1828800"/>
            <a:ext cx="7467840" cy="34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ne of the few radios with no roofing filters at all is the Flex 5000A.   It basically converts everything to baseband (typically 11 kHz) and filters it in DSP.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Flex also performs very well with a completely different architecture, and with different tradeoffs.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You need $500 to $1000 computer and likely a $200 LCD monitor, but not a slew of $100 roofing filters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990720" y="1471680"/>
            <a:ext cx="769608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80 dB or better @ 2 kHz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1976 Sherwood / Drake R-4C: 84 dB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2001 Ten-Tec Omni-VI+: 80 dB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2003 Icom IC-7800: 80 dB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2003 Ten-Tec Orion I: 93 dB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2005 Ten-Tec Orion II: 95 dB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2007 Flex 5000A: 96 dB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2007 Ten-Tec Omni-VII: 80 dB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2008 Elecraft K3: 95 to101 dB, depending on roofing    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nd DSP filter bandwidth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9907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at dynamic range is possible and needed for CW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947880" y="795600"/>
            <a:ext cx="7857000" cy="4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Considerations in Choosing a Transceiver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14400" y="1676520"/>
            <a:ext cx="7848720" cy="54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High close-in dynamic range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         (copy S1 in crowded band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Low noise floor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                         (copy very weak signals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Low phase noise 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         (low noise on the Local Oscillator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Low in-band spurious on both receive and transmi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Low IMD on SSB transmit, and low key clicks on CW transmi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Effective SSB speech processor 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(more talk power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Good receive and transmit audio quality        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(intelligibility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Smooth AGC for low fatigue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       (noise doesn’t fill in spaces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AGC that doesn’t exaggerate impulse noise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  (hangs up AGC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Good ergonomics of controls and menus     (easy adjustments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Good display that also shows important setting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914400" y="1447920"/>
            <a:ext cx="7543800" cy="801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Elecraft K2: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80 dB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Collins R-390A: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79 dB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Kenwood TS-850S: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77 dB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Icom Pro II / Pro III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75 dB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Collins 75S-3B/C: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72 dB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Kenwood TS-870S: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69 dB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Yaesu FT-2000: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63 dB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Icom IC-7000: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63 dB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Yaesu FT-One: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63 dB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Yaesu FT-101E: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59 dB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Drake R-4C Stock: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58 dB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Yaesu FT-757: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56 dB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Yaesu VR-5000: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49 dB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990720" y="76212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ther radios for comparison, 2 kHz dynamic range dat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914400" y="7621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ntest Fatigue &amp; Audio Quality -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e Forgotten Spec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990720" y="1752480"/>
            <a:ext cx="769608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wo transceivers made me tired in a long contest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audio was harsh on SSB and CW.  Met OEM Spec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EM spec = 2.5 watts @ 10% distortion =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pp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at makes audio harsh and fatiguing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igh Odd-Order Harmonics and / or IM Distortion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ear / brain is very sensitive to these product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ny product detector &amp; audio amp will meet 10% spec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us th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pec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i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eaningless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871920" y="795600"/>
            <a:ext cx="7857360" cy="4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Harmonic Distortion of a Good Amp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838080" y="1523880"/>
            <a:ext cx="7772400" cy="510552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3352680" y="15228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Distortion &lt; 0.3 % &amp; sounds fin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905120" y="4267080"/>
            <a:ext cx="114300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124080" y="403848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55 dB 2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rder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362320" y="4800600"/>
            <a:ext cx="99036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429000" y="45720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68 dB 3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rder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795600" y="795600"/>
            <a:ext cx="7857000" cy="4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IM distortion of Good Amp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838080" y="1523880"/>
            <a:ext cx="8077320" cy="518184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3276720" y="152280"/>
            <a:ext cx="533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Distortion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=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0.3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% &amp; sounds fin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895480" y="4495680"/>
            <a:ext cx="121932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114800" y="42670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53 dB 3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rd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795600" y="795600"/>
            <a:ext cx="7857000" cy="4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Not So Good Amp &amp; Odd Order &gt; Eve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838080" y="1523880"/>
            <a:ext cx="8001000" cy="502920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3276720" y="1522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Distortion &lt; 0.3 % but sounds ba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6781680" y="335232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105520" y="281952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65 dB 1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rd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795600" y="795600"/>
            <a:ext cx="7857000" cy="4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Way too much IM Distortion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8001000" cy="50292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3429000" y="1522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% distortion but sounds terrible !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3886200" y="3428640"/>
            <a:ext cx="0" cy="60948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362320" y="297180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40 dB 9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rder IM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947880" y="795600"/>
            <a:ext cx="7857000" cy="4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he Challenge = Get OEMs to Listen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914400" y="1828800"/>
            <a:ext cx="80010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 a 24 hour or 48 hour contest, you need every edg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igh Dynamic  Range Receiv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Good Speech Processor on SSB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ig Tower and Good Antennas, etc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ut Your Brain Can Get “Fried” due to operator fatigu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ad audio can be a factor in that fatigue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2057400" y="1905120"/>
            <a:ext cx="657360" cy="162864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2222280" y="2084400"/>
            <a:ext cx="576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Sherwood Engineering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838080" y="388620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 Narrow"/>
              </a:rPr>
              <a:t>http://www.sherwood-engineering.co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838080" y="518148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 Narrow"/>
              </a:rPr>
              <a:t>http://www.NC0B.co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24400" y="900720"/>
            <a:ext cx="8256600" cy="86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 Black"/>
              </a:rPr>
              <a:t>What 2 Numbers are Most Important for a CW Contester?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438280"/>
            <a:ext cx="7693200" cy="326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01"/>
              </a:spcBef>
              <a:buClr>
                <a:srgbClr val="0066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Noise Floor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01"/>
              </a:spcBef>
              <a:buClr>
                <a:srgbClr val="0066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Close-in Dynamic Range  (DR3)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(Noise floor need to calculate DR3)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18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57200" y="0"/>
              <a:ext cx="2743200" cy="1166760"/>
            </a:xfrm>
            <a:custGeom>
              <a:avLst/>
              <a:gdLst/>
              <a:ahLst/>
              <a:rect l="l" t="t" r="r" b="b"/>
              <a:pathLst>
                <a:path w="1728" h="735">
                  <a:moveTo>
                    <a:pt x="1728" y="0"/>
                  </a:moveTo>
                  <a:lnTo>
                    <a:pt x="1728" y="480"/>
                  </a:lnTo>
                  <a:lnTo>
                    <a:pt x="380" y="482"/>
                  </a:lnTo>
                  <a:lnTo>
                    <a:pt x="354" y="480"/>
                  </a:lnTo>
                  <a:lnTo>
                    <a:pt x="308" y="489"/>
                  </a:lnTo>
                  <a:cubicBezTo>
                    <a:pt x="290" y="498"/>
                    <a:pt x="263" y="513"/>
                    <a:pt x="246" y="531"/>
                  </a:cubicBezTo>
                  <a:cubicBezTo>
                    <a:pt x="229" y="549"/>
                    <a:pt x="215" y="574"/>
                    <a:pt x="206" y="597"/>
                  </a:cubicBezTo>
                  <a:cubicBezTo>
                    <a:pt x="197" y="620"/>
                    <a:pt x="194" y="643"/>
                    <a:pt x="192" y="666"/>
                  </a:cubicBezTo>
                  <a:lnTo>
                    <a:pt x="192" y="735"/>
                  </a:lnTo>
                  <a:lnTo>
                    <a:pt x="0" y="735"/>
                  </a:lnTo>
                  <a:lnTo>
                    <a:pt x="0" y="480"/>
                  </a:lnTo>
                  <a:lnTo>
                    <a:pt x="0" y="0"/>
                  </a:lnTo>
                  <a:lnTo>
                    <a:pt x="1728" y="0"/>
                  </a:lnTo>
                  <a:close/>
                </a:path>
              </a:pathLst>
            </a:cu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228600" y="1676520"/>
            <a:ext cx="7391520" cy="228600"/>
            <a:chOff x="228600" y="1676520"/>
            <a:chExt cx="7391520" cy="228600"/>
          </a:xfrm>
        </p:grpSpPr>
        <p:sp>
          <p:nvSpPr>
            <p:cNvPr id="121" name=""/>
            <p:cNvSpPr/>
            <p:nvPr/>
          </p:nvSpPr>
          <p:spPr>
            <a:xfrm>
              <a:off x="609480" y="1676520"/>
              <a:ext cx="7010640" cy="22716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>
              <a:off x="228600" y="1676520"/>
              <a:ext cx="393840" cy="22860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10000" y="657360"/>
            <a:ext cx="7828200" cy="6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 Black"/>
              </a:rPr>
              <a:t>What is Noise Floor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761760" y="2514240"/>
            <a:ext cx="830556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nsitivity is a familiar number, normally applies to SSB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Sensitivity</a:t>
            </a: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 = 10 dB Signal + Noise / Noise (10 dB S+N/N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Noise Floor</a:t>
            </a: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 = 3 dB Signal + Noise / Noise  (3 dB S+N/N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oise floor can be measured at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ny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ilter bandwidth, CW or SSB, for example, and is bandwidth dependent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eague normally only publishes noise floor for a CW bandwidth, typically 500 Hz CW filter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62120" y="1600200"/>
            <a:ext cx="83055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38080" y="76212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 Black"/>
              </a:rPr>
              <a:t>Third Order IMD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1219320" y="2057400"/>
            <a:ext cx="7619760" cy="4191120"/>
            <a:chOff x="1219320" y="2057400"/>
            <a:chExt cx="7619760" cy="4191120"/>
          </a:xfrm>
        </p:grpSpPr>
        <p:sp>
          <p:nvSpPr>
            <p:cNvPr id="128" name=""/>
            <p:cNvSpPr/>
            <p:nvPr/>
          </p:nvSpPr>
          <p:spPr>
            <a:xfrm>
              <a:off x="1219320" y="6248520"/>
              <a:ext cx="761976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29" name=""/>
            <p:cNvGrpSpPr/>
            <p:nvPr/>
          </p:nvGrpSpPr>
          <p:grpSpPr>
            <a:xfrm>
              <a:off x="3124080" y="2057400"/>
              <a:ext cx="1752120" cy="4191120"/>
              <a:chOff x="3124080" y="2057400"/>
              <a:chExt cx="1752120" cy="4191120"/>
            </a:xfrm>
          </p:grpSpPr>
          <p:sp>
            <p:nvSpPr>
              <p:cNvPr id="130" name=""/>
              <p:cNvSpPr/>
              <p:nvPr/>
            </p:nvSpPr>
            <p:spPr>
              <a:xfrm>
                <a:off x="3124080" y="2057400"/>
                <a:ext cx="1752120" cy="91440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3366"/>
                    </a:solidFill>
                    <a:latin typeface="Arial Black"/>
                  </a:rPr>
                  <a:t>Signal</a:t>
                </a:r>
                <a:endParaRPr b="0" lang="en-US" sz="32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038120" y="2971800"/>
                <a:ext cx="0" cy="3276720"/>
              </a:xfrm>
              <a:prstGeom prst="line">
                <a:avLst/>
              </a:prstGeom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>
              <a:off x="4038480" y="3429000"/>
              <a:ext cx="1828440" cy="0"/>
            </a:xfrm>
            <a:prstGeom prst="line">
              <a:avLst/>
            </a:prstGeom>
            <a:ln w="76320">
              <a:solidFill>
                <a:srgbClr val="800000"/>
              </a:solidFill>
              <a:miter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33" name=""/>
            <p:cNvGrpSpPr/>
            <p:nvPr/>
          </p:nvGrpSpPr>
          <p:grpSpPr>
            <a:xfrm>
              <a:off x="4952880" y="2057400"/>
              <a:ext cx="1752120" cy="4191120"/>
              <a:chOff x="4952880" y="2057400"/>
              <a:chExt cx="1752120" cy="4191120"/>
            </a:xfrm>
          </p:grpSpPr>
          <p:sp>
            <p:nvSpPr>
              <p:cNvPr id="134" name=""/>
              <p:cNvSpPr/>
              <p:nvPr/>
            </p:nvSpPr>
            <p:spPr>
              <a:xfrm>
                <a:off x="4952880" y="2057400"/>
                <a:ext cx="1752120" cy="91440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3366"/>
                    </a:solidFill>
                    <a:latin typeface="Arial Black"/>
                  </a:rPr>
                  <a:t>Signal</a:t>
                </a:r>
                <a:endParaRPr b="0" lang="en-US" sz="32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5866920" y="2971800"/>
                <a:ext cx="0" cy="3276720"/>
              </a:xfrm>
              <a:prstGeom prst="line">
                <a:avLst/>
              </a:prstGeom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36" name=""/>
            <p:cNvGrpSpPr/>
            <p:nvPr/>
          </p:nvGrpSpPr>
          <p:grpSpPr>
            <a:xfrm>
              <a:off x="1676160" y="5181480"/>
              <a:ext cx="1066320" cy="1067040"/>
              <a:chOff x="1676160" y="5181480"/>
              <a:chExt cx="1066320" cy="1067040"/>
            </a:xfrm>
          </p:grpSpPr>
          <p:sp>
            <p:nvSpPr>
              <p:cNvPr id="137" name=""/>
              <p:cNvSpPr/>
              <p:nvPr/>
            </p:nvSpPr>
            <p:spPr>
              <a:xfrm>
                <a:off x="1676160" y="5181480"/>
                <a:ext cx="1066320" cy="60984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3366"/>
                    </a:solidFill>
                    <a:latin typeface="Arial Black"/>
                  </a:rPr>
                  <a:t>IMD</a:t>
                </a:r>
                <a:endParaRPr b="0" lang="en-US" sz="32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209320" y="5791320"/>
                <a:ext cx="0" cy="457200"/>
              </a:xfrm>
              <a:prstGeom prst="line">
                <a:avLst/>
              </a:prstGeom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39" name=""/>
            <p:cNvSpPr/>
            <p:nvPr/>
          </p:nvSpPr>
          <p:spPr>
            <a:xfrm>
              <a:off x="2209680" y="6019920"/>
              <a:ext cx="1828440" cy="0"/>
            </a:xfrm>
            <a:prstGeom prst="line">
              <a:avLst/>
            </a:prstGeom>
            <a:ln w="76320">
              <a:solidFill>
                <a:srgbClr val="800000"/>
              </a:solidFill>
              <a:miter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867280" y="6019920"/>
              <a:ext cx="1828440" cy="0"/>
            </a:xfrm>
            <a:prstGeom prst="line">
              <a:avLst/>
            </a:prstGeom>
            <a:ln w="76320">
              <a:solidFill>
                <a:srgbClr val="800000"/>
              </a:solidFill>
              <a:miter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41" name=""/>
            <p:cNvGrpSpPr/>
            <p:nvPr/>
          </p:nvGrpSpPr>
          <p:grpSpPr>
            <a:xfrm>
              <a:off x="7162560" y="5181480"/>
              <a:ext cx="1066320" cy="1067040"/>
              <a:chOff x="7162560" y="5181480"/>
              <a:chExt cx="1066320" cy="1067040"/>
            </a:xfrm>
          </p:grpSpPr>
          <p:sp>
            <p:nvSpPr>
              <p:cNvPr id="142" name=""/>
              <p:cNvSpPr/>
              <p:nvPr/>
            </p:nvSpPr>
            <p:spPr>
              <a:xfrm>
                <a:off x="7695720" y="5791320"/>
                <a:ext cx="0" cy="457200"/>
              </a:xfrm>
              <a:prstGeom prst="line">
                <a:avLst/>
              </a:prstGeom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7162560" y="5181480"/>
                <a:ext cx="1066320" cy="60984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3366"/>
                    </a:solidFill>
                    <a:latin typeface="Arial Black"/>
                  </a:rPr>
                  <a:t>IMD</a:t>
                </a:r>
                <a:endParaRPr b="0" lang="en-US" sz="32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grpSp>
        <p:nvGrpSpPr>
          <p:cNvPr id="144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45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57200" y="0"/>
              <a:ext cx="2743200" cy="1166760"/>
            </a:xfrm>
            <a:custGeom>
              <a:avLst/>
              <a:gdLst/>
              <a:ahLst/>
              <a:rect l="l" t="t" r="r" b="b"/>
              <a:pathLst>
                <a:path w="1728" h="735">
                  <a:moveTo>
                    <a:pt x="1728" y="0"/>
                  </a:moveTo>
                  <a:lnTo>
                    <a:pt x="1728" y="480"/>
                  </a:lnTo>
                  <a:lnTo>
                    <a:pt x="380" y="482"/>
                  </a:lnTo>
                  <a:lnTo>
                    <a:pt x="354" y="480"/>
                  </a:lnTo>
                  <a:lnTo>
                    <a:pt x="308" y="489"/>
                  </a:lnTo>
                  <a:cubicBezTo>
                    <a:pt x="290" y="498"/>
                    <a:pt x="263" y="513"/>
                    <a:pt x="246" y="531"/>
                  </a:cubicBezTo>
                  <a:cubicBezTo>
                    <a:pt x="229" y="549"/>
                    <a:pt x="215" y="574"/>
                    <a:pt x="206" y="597"/>
                  </a:cubicBezTo>
                  <a:cubicBezTo>
                    <a:pt x="197" y="620"/>
                    <a:pt x="194" y="643"/>
                    <a:pt x="192" y="666"/>
                  </a:cubicBezTo>
                  <a:lnTo>
                    <a:pt x="192" y="735"/>
                  </a:lnTo>
                  <a:lnTo>
                    <a:pt x="0" y="735"/>
                  </a:lnTo>
                  <a:lnTo>
                    <a:pt x="0" y="480"/>
                  </a:lnTo>
                  <a:lnTo>
                    <a:pt x="0" y="0"/>
                  </a:lnTo>
                  <a:lnTo>
                    <a:pt x="1728" y="0"/>
                  </a:lnTo>
                  <a:close/>
                </a:path>
              </a:pathLst>
            </a:cu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152280" y="1371600"/>
            <a:ext cx="7391520" cy="228600"/>
            <a:chOff x="152280" y="1371600"/>
            <a:chExt cx="7391520" cy="228600"/>
          </a:xfrm>
        </p:grpSpPr>
        <p:sp>
          <p:nvSpPr>
            <p:cNvPr id="148" name=""/>
            <p:cNvSpPr/>
            <p:nvPr/>
          </p:nvSpPr>
          <p:spPr>
            <a:xfrm>
              <a:off x="533160" y="1371600"/>
              <a:ext cx="7010640" cy="22716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152280" y="1371600"/>
              <a:ext cx="393840" cy="22860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4038480" y="380988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 kHz spac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209680" y="624852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 kHz spac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867280" y="624852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 kHz spac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795600" y="795600"/>
            <a:ext cx="7857000" cy="4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 Black"/>
              </a:rPr>
              <a:t>What is Dynamic Range?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761760" y="1828440"/>
            <a:ext cx="83055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range i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B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of very strong signals to very weak signals that  the receiver can handl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t The Same Tim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at i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ose-in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ynamic</a:t>
            </a: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ange vs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Wide-Spaced</a:t>
            </a: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ynamic</a:t>
            </a: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ange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y is </a:t>
            </a: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Close-in Dynamic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so important for CW ops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y is it less important for SSB operators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24400" y="367200"/>
            <a:ext cx="7799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 Black"/>
              </a:rPr>
              <a:t>Wide &amp; Close Dynamic Rang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303200" y="2011320"/>
            <a:ext cx="307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Black"/>
              </a:rPr>
              <a:t>20 kHz Spacing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594040" y="1981080"/>
            <a:ext cx="283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Black"/>
              </a:rPr>
              <a:t>2 kHz Spacing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838080" y="2743200"/>
            <a:ext cx="4343400" cy="3342240"/>
            <a:chOff x="838080" y="2743200"/>
            <a:chExt cx="4343400" cy="3342240"/>
          </a:xfrm>
        </p:grpSpPr>
        <p:sp>
          <p:nvSpPr>
            <p:cNvPr id="159" name=""/>
            <p:cNvSpPr/>
            <p:nvPr/>
          </p:nvSpPr>
          <p:spPr>
            <a:xfrm>
              <a:off x="1140480" y="5686560"/>
              <a:ext cx="333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Arial"/>
                </a:rPr>
                <a:t>First IF Filter at 70.455 MHz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436840" y="3251160"/>
              <a:ext cx="2204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6600"/>
                  </a:solidFill>
                  <a:latin typeface="Arial"/>
                </a:rPr>
                <a:t>IMD 20 kHz Away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990360" y="3505320"/>
              <a:ext cx="1371600" cy="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361960" y="3810240"/>
              <a:ext cx="1371600" cy="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990360" y="2743200"/>
              <a:ext cx="0" cy="274320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361960" y="2743200"/>
              <a:ext cx="0" cy="274320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38080" y="5486400"/>
              <a:ext cx="434340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2895480" y="4200480"/>
              <a:ext cx="2133720" cy="1295640"/>
              <a:chOff x="2895480" y="4200480"/>
              <a:chExt cx="2133720" cy="1295640"/>
            </a:xfrm>
          </p:grpSpPr>
          <p:sp>
            <p:nvSpPr>
              <p:cNvPr id="167" name=""/>
              <p:cNvSpPr/>
              <p:nvPr/>
            </p:nvSpPr>
            <p:spPr>
              <a:xfrm flipV="1">
                <a:off x="2895480" y="4200480"/>
                <a:ext cx="2133720" cy="1285920"/>
              </a:xfrm>
              <a:custGeom>
                <a:avLst/>
                <a:gdLst>
                  <a:gd name="textAreaLeft" fmla="*/ 561960 w 2133720"/>
                  <a:gd name="textAreaRight" fmla="*/ 1571760 w 2133720"/>
                  <a:gd name="textAreaTop" fmla="*/ 338760 h 1285920"/>
                  <a:gd name="textAreaBottom" fmla="*/ 947160 h 1285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4507" y="21600"/>
                    </a:lnTo>
                    <a:lnTo>
                      <a:pt x="7093" y="21600"/>
                    </a:lnTo>
                    <a:close/>
                  </a:path>
                </a:pathLst>
              </a:custGeom>
              <a:solidFill>
                <a:srgbClr val="ccffff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3247200" y="4581720"/>
                <a:ext cx="1474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3366"/>
                    </a:solidFill>
                    <a:latin typeface="Arial"/>
                  </a:rPr>
                  <a:t>15 kHz Wide</a:t>
                </a: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3581280" y="4353120"/>
                <a:ext cx="762120" cy="0"/>
              </a:xfrm>
              <a:prstGeom prst="line">
                <a:avLst/>
              </a:prstGeom>
              <a:ln w="28440">
                <a:solidFill>
                  <a:srgbClr val="003366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3962160" y="5267520"/>
                <a:ext cx="0" cy="2286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"/>
          <p:cNvSpPr/>
          <p:nvPr/>
        </p:nvSpPr>
        <p:spPr>
          <a:xfrm>
            <a:off x="9982080" y="5486400"/>
            <a:ext cx="0" cy="2286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5483880" y="2743200"/>
            <a:ext cx="3638880" cy="3370320"/>
            <a:chOff x="5483880" y="2743200"/>
            <a:chExt cx="3638880" cy="3370320"/>
          </a:xfrm>
        </p:grpSpPr>
        <p:sp>
          <p:nvSpPr>
            <p:cNvPr id="173" name=""/>
            <p:cNvSpPr/>
            <p:nvPr/>
          </p:nvSpPr>
          <p:spPr>
            <a:xfrm>
              <a:off x="5483880" y="5714640"/>
              <a:ext cx="333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Arial"/>
                </a:rPr>
                <a:t>First IF Filter at 70.455 MHz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059960" y="3232080"/>
              <a:ext cx="2062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6600"/>
                  </a:solidFill>
                  <a:latin typeface="Arial"/>
                </a:rPr>
                <a:t>IMD 2 kHz Away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765760" y="5486040"/>
              <a:ext cx="259092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76" name=""/>
            <p:cNvGrpSpPr/>
            <p:nvPr/>
          </p:nvGrpSpPr>
          <p:grpSpPr>
            <a:xfrm>
              <a:off x="5994360" y="4190760"/>
              <a:ext cx="2133360" cy="1294560"/>
              <a:chOff x="5994360" y="4190760"/>
              <a:chExt cx="2133360" cy="1294560"/>
            </a:xfrm>
          </p:grpSpPr>
          <p:sp>
            <p:nvSpPr>
              <p:cNvPr id="177" name=""/>
              <p:cNvSpPr/>
              <p:nvPr/>
            </p:nvSpPr>
            <p:spPr>
              <a:xfrm>
                <a:off x="6680160" y="4419000"/>
                <a:ext cx="761760" cy="0"/>
              </a:xfrm>
              <a:prstGeom prst="line">
                <a:avLst/>
              </a:prstGeom>
              <a:ln w="28440">
                <a:solidFill>
                  <a:srgbClr val="003366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flipV="1">
                <a:off x="5994360" y="4190760"/>
                <a:ext cx="2133360" cy="1285200"/>
              </a:xfrm>
              <a:custGeom>
                <a:avLst/>
                <a:gdLst>
                  <a:gd name="textAreaLeft" fmla="*/ 561960 w 2133360"/>
                  <a:gd name="textAreaRight" fmla="*/ 1571400 w 2133360"/>
                  <a:gd name="textAreaTop" fmla="*/ 338400 h 1285200"/>
                  <a:gd name="textAreaBottom" fmla="*/ 946800 h 1285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4507" y="21600"/>
                    </a:lnTo>
                    <a:lnTo>
                      <a:pt x="7093" y="21600"/>
                    </a:lnTo>
                    <a:close/>
                  </a:path>
                </a:pathLst>
              </a:custGeom>
              <a:solidFill>
                <a:srgbClr val="ccffff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6346080" y="4571640"/>
                <a:ext cx="1474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3366"/>
                    </a:solidFill>
                    <a:latin typeface="Arial"/>
                  </a:rPr>
                  <a:t>15 kHz Wide</a:t>
                </a: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6680160" y="4343040"/>
                <a:ext cx="761760" cy="0"/>
              </a:xfrm>
              <a:prstGeom prst="line">
                <a:avLst/>
              </a:prstGeom>
              <a:ln w="28440">
                <a:solidFill>
                  <a:srgbClr val="003366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7137360" y="5257080"/>
                <a:ext cx="0" cy="2282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6680160" y="5257080"/>
                <a:ext cx="0" cy="22824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83" name=""/>
            <p:cNvSpPr/>
            <p:nvPr/>
          </p:nvSpPr>
          <p:spPr>
            <a:xfrm>
              <a:off x="6832440" y="2743200"/>
              <a:ext cx="0" cy="274284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985080" y="2743200"/>
              <a:ext cx="0" cy="274284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86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57200" y="0"/>
              <a:ext cx="2743200" cy="1166760"/>
            </a:xfrm>
            <a:custGeom>
              <a:avLst/>
              <a:gdLst/>
              <a:ahLst/>
              <a:rect l="l" t="t" r="r" b="b"/>
              <a:pathLst>
                <a:path w="1728" h="735">
                  <a:moveTo>
                    <a:pt x="1728" y="0"/>
                  </a:moveTo>
                  <a:lnTo>
                    <a:pt x="1728" y="480"/>
                  </a:lnTo>
                  <a:lnTo>
                    <a:pt x="380" y="482"/>
                  </a:lnTo>
                  <a:lnTo>
                    <a:pt x="354" y="480"/>
                  </a:lnTo>
                  <a:lnTo>
                    <a:pt x="308" y="489"/>
                  </a:lnTo>
                  <a:cubicBezTo>
                    <a:pt x="290" y="498"/>
                    <a:pt x="263" y="513"/>
                    <a:pt x="246" y="531"/>
                  </a:cubicBezTo>
                  <a:cubicBezTo>
                    <a:pt x="229" y="549"/>
                    <a:pt x="215" y="574"/>
                    <a:pt x="206" y="597"/>
                  </a:cubicBezTo>
                  <a:cubicBezTo>
                    <a:pt x="197" y="620"/>
                    <a:pt x="194" y="643"/>
                    <a:pt x="192" y="666"/>
                  </a:cubicBezTo>
                  <a:lnTo>
                    <a:pt x="192" y="735"/>
                  </a:lnTo>
                  <a:lnTo>
                    <a:pt x="0" y="735"/>
                  </a:lnTo>
                  <a:lnTo>
                    <a:pt x="0" y="480"/>
                  </a:lnTo>
                  <a:lnTo>
                    <a:pt x="0" y="0"/>
                  </a:lnTo>
                  <a:lnTo>
                    <a:pt x="1728" y="0"/>
                  </a:lnTo>
                  <a:close/>
                </a:path>
              </a:pathLst>
            </a:cu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304560" y="1219320"/>
            <a:ext cx="7391160" cy="228600"/>
            <a:chOff x="304560" y="1219320"/>
            <a:chExt cx="7391160" cy="228600"/>
          </a:xfrm>
        </p:grpSpPr>
        <p:sp>
          <p:nvSpPr>
            <p:cNvPr id="189" name=""/>
            <p:cNvSpPr/>
            <p:nvPr/>
          </p:nvSpPr>
          <p:spPr>
            <a:xfrm>
              <a:off x="685440" y="1219320"/>
              <a:ext cx="7010280" cy="22716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>
              <a:off x="304200" y="1219320"/>
              <a:ext cx="393480" cy="22860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7T16:48:08Z</dcterms:created>
  <dc:creator>Chris &amp; Terri Cantrell</dc:creator>
  <dc:description/>
  <dc:language>en-US</dc:language>
  <cp:lastModifiedBy>Terri &amp; Chris Cantrell</cp:lastModifiedBy>
  <dcterms:modified xsi:type="dcterms:W3CDTF">2008-07-31T02:27:39Z</dcterms:modified>
  <cp:revision>250</cp:revision>
  <dc:subject/>
  <dc:title>Radios Used in a Contest Environme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