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0C1-96B4-488D-9D5C-B6D5C819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01D-DFC9-4731-AAAB-5198E325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3C8-C959-4B9B-895D-07F49048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655-7FC3-4AA8-A98B-FFDD8AFB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9720-6D50-4160-AEFF-7AB377CB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6902-57F9-416C-9EF4-F0230DCE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6739-9231-4103-82FF-2C38713D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9F97-6A10-490D-B7A9-C7ED9CFA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4D40-0428-4CC6-85AA-74D906DF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CE2F-9EAB-4891-A22E-9EBE5925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D1B3-CC0C-4343-A531-93CDD0E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705-900C-437B-B8E4-B67C3A41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252C-2DA0-4760-9318-E1E83D7B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821C-0FDF-45A7-A88A-22446B3B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32C8-93C5-4536-83CD-BEB3C570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A77A-45FD-4205-A860-7DC6ABC8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F84D-5D32-4AF2-BE41-EEB97E51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1AB-B027-4250-8691-3AC0022E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591-E1A2-43BA-BE53-1A8D9619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5E7-B0FC-4EC6-9814-B820993C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697-3B2F-49DA-9630-569E7C3E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AD2-75B5-428F-8E81-2665760D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1D4-26F1-4A59-A0DF-21BEB4B4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968-E836-46F1-86B9-DAF5791A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219320"/>
            <a:ext cx="7391520" cy="228600"/>
            <a:chOff x="228600" y="1219320"/>
            <a:chExt cx="7391520" cy="228600"/>
          </a:xfrm>
        </p:grpSpPr>
        <p:sp>
          <p:nvSpPr>
            <p:cNvPr id="4" name=""/>
            <p:cNvSpPr/>
            <p:nvPr/>
          </p:nvSpPr>
          <p:spPr>
            <a:xfrm>
              <a:off x="609480" y="12193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2193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1720-0FB8-48F6-8202-C96ED873258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57600" y="4343400"/>
            <a:ext cx="4876920" cy="228600"/>
            <a:chOff x="3657600" y="4343400"/>
            <a:chExt cx="4876920" cy="228600"/>
          </a:xfrm>
        </p:grpSpPr>
        <p:sp>
          <p:nvSpPr>
            <p:cNvPr id="51" name=""/>
            <p:cNvSpPr/>
            <p:nvPr/>
          </p:nvSpPr>
          <p:spPr>
            <a:xfrm flipH="1">
              <a:off x="3657600" y="4343400"/>
              <a:ext cx="4626000" cy="22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4240" y="4343400"/>
              <a:ext cx="2602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383D-7F91-4EF2-9690-2E177F6EE9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53200" y="1843560"/>
            <a:ext cx="7894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Roofing Filters, Transmitted BW and Receiver Performance</a:t>
            </a:r>
            <a:br>
              <a:rPr sz="4800"/>
            </a:b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Rob Sherwo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NC</a:t>
            </a:r>
            <a:r>
              <a:rPr b="1" lang="en-US" sz="4000" spc="-1" strike="noStrike">
                <a:solidFill>
                  <a:srgbClr val="993300"/>
                </a:solidFill>
                <a:latin typeface="SimSun"/>
                <a:ea typeface="SimSun"/>
              </a:rPr>
              <a:t>Ø</a:t>
            </a: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105520"/>
            <a:ext cx="8229600" cy="9903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important when it comes to choosing a radio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16200" y="6477120"/>
            <a:ext cx="2133000" cy="416520"/>
            <a:chOff x="-16200" y="6477120"/>
            <a:chExt cx="2133000" cy="4165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840" y="6477120"/>
              <a:ext cx="1573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-16200" y="6629400"/>
              <a:ext cx="21330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Impact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Sherwood Engineerin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5883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keeps the undesired strong signals from progressing down stream to the next s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304920"/>
            <a:ext cx="304560" cy="304560"/>
          </a:xfrm>
          <a:prstGeom prst="flowChartMerg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838080" y="1905120"/>
            <a:ext cx="8077320" cy="3733200"/>
            <a:chOff x="838080" y="1905120"/>
            <a:chExt cx="8077320" cy="3733200"/>
          </a:xfrm>
        </p:grpSpPr>
        <p:sp>
          <p:nvSpPr>
            <p:cNvPr id="197" name=""/>
            <p:cNvSpPr/>
            <p:nvPr/>
          </p:nvSpPr>
          <p:spPr>
            <a:xfrm>
              <a:off x="1295280" y="2506320"/>
              <a:ext cx="65530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18480" y="195084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500 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190512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6–15 k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394880" y="1759320"/>
              <a:ext cx="1096560" cy="1479240"/>
            </a:xfrm>
            <a:prstGeom prst="flowChartMerg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14800" y="2300040"/>
              <a:ext cx="12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mplifi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7220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209680" y="2514240"/>
              <a:ext cx="304920" cy="2604960"/>
              <a:chOff x="2209680" y="2514240"/>
              <a:chExt cx="304920" cy="2604960"/>
            </a:xfrm>
          </p:grpSpPr>
          <p:sp>
            <p:nvSpPr>
              <p:cNvPr id="205" name=""/>
              <p:cNvSpPr/>
              <p:nvPr/>
            </p:nvSpPr>
            <p:spPr>
              <a:xfrm>
                <a:off x="220968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0968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580920" y="2514240"/>
              <a:ext cx="305280" cy="2604960"/>
              <a:chOff x="3580920" y="2514240"/>
              <a:chExt cx="305280" cy="2604960"/>
            </a:xfrm>
          </p:grpSpPr>
          <p:sp>
            <p:nvSpPr>
              <p:cNvPr id="208" name=""/>
              <p:cNvSpPr/>
              <p:nvPr/>
            </p:nvSpPr>
            <p:spPr>
              <a:xfrm>
                <a:off x="388620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358092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2514600" y="454176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600 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838080" y="838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f we could switch in a narrow Roofing Filter only slightly wider than the final selectivit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13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5" name=""/>
          <p:cNvSpPr txBox="1"/>
          <p:nvPr/>
        </p:nvSpPr>
        <p:spPr>
          <a:xfrm>
            <a:off x="824400" y="824400"/>
            <a:ext cx="8180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en are 2 Out of Pass Band Signals a Probl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640880"/>
            <a:ext cx="830556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know the close-in dynamic range of a radio, at what signal level will IMD start to be a proble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 Meter standard is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9 = 50 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V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which is 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–73 dB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e a typical radio:</a:t>
            </a:r>
            <a:br>
              <a:rPr sz="2400"/>
            </a:b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0 Hz CW filt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ise Floor of -128 dB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amp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28600" y="1676520"/>
            <a:ext cx="7391520" cy="152280"/>
            <a:chOff x="228600" y="1676520"/>
            <a:chExt cx="7391520" cy="152280"/>
          </a:xfrm>
        </p:grpSpPr>
        <p:sp>
          <p:nvSpPr>
            <p:cNvPr id="218" name=""/>
            <p:cNvSpPr/>
            <p:nvPr/>
          </p:nvSpPr>
          <p:spPr>
            <a:xfrm>
              <a:off x="609480" y="1676520"/>
              <a:ext cx="7010640" cy="1515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28600" y="1676520"/>
              <a:ext cx="393840" cy="1522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905120" y="3753720"/>
            <a:ext cx="6933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Dynamic Range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Signal Level Causing IMD = Noise Flo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75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5 dB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101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WM-38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S-8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56 Pro II / I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mni-V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95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ion I (93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ion II &amp; Flex 5000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3 (95 to 101 dB)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7192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DR3 “window” is not fix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2057400"/>
            <a:ext cx="8077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ynamic range of a radio is the same with an attenuator ON or OFF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on a noisy band, attenuate the noise and all signals to make better use of the dynamic range, and reduce the chance of overlo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band noise goes from S6 to S2 by turning on the attenuator, you have l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yet your radio is being stressed much les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Comment on IP3 (3</a:t>
            </a:r>
            <a:r>
              <a:rPr b="1" lang="en-US" sz="32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Order Intercept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523880"/>
            <a:ext cx="7696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don’t publish IP3.  It is a theoretical numb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has more meaning for a block amplifier or mix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most meaningless if the AGC of a receiver is invol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ctober 2007 QST Product Review FT-2000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3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Spacing    Level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P3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8 dB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20 kHz      Noise Flo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25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9 dB    2 kHz       Noise Flo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19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9 dB    2 kHz       0 dBm = S9+73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15 dBm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7192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ttenuators, Preamps &amp; IP3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676520"/>
            <a:ext cx="800100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range is constant if you enable an attenuator and often constant even with preamp enabled.  IP3 varies all over the map.  Data from March QST 2008 FT-95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Ran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P3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 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5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4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publish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 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5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13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published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Preamp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2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publish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 6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28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calculat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 12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3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calculat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 18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40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calculat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ents on Blocking &amp; Phas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175248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cking is the onset of gain compress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can be an issue with another ham with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line-of-site”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n issue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eld Da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lti-mult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ontest sta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w phase noise is desirable, but a very good low phase-noise receiver has to contend with transmitted phase nois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aling with transmitted phase noise is like dealing with transmitted IMD products and splat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not do much about it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s now move from CW to SS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1981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are the dynamic range requirements less stringent on SSB than on CW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52760" y="1514880"/>
            <a:ext cx="80956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20004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305920" cy="5181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523880" y="10666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ransmitted IMD Collins 32S-3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80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6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367600" y="414720"/>
            <a:ext cx="1532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27 dB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lid-State Transceiver on 20 met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848360" cy="47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192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aesu FT-1000 Mk V in Class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514600" y="15238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d by Pete, W6X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848720" cy="4724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486400" y="228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42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28640" y="804960"/>
            <a:ext cx="7381080" cy="59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y Did I Start Testing Radios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rchased a new Drake R-4C in 197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it during the ARRL 160m CW con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Radio performed miserably, y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cs Were G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70s: League expanded testing to includ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oise Flo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ynamic Ran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new concepts for the amateu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-4C tested well for Dynamic Range, but flunked CW contest 10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RRL dynamic range test did not approximate a real-world environment, especially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W conte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8600" y="1371600"/>
            <a:ext cx="7391520" cy="228600"/>
            <a:chOff x="228600" y="1371600"/>
            <a:chExt cx="7391520" cy="228600"/>
          </a:xfrm>
        </p:grpSpPr>
        <p:sp>
          <p:nvSpPr>
            <p:cNvPr id="106" name=""/>
            <p:cNvSpPr/>
            <p:nvPr/>
          </p:nvSpPr>
          <p:spPr>
            <a:xfrm>
              <a:off x="609480" y="137160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28600" y="137160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2528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k V Class A + 8877 Linear Amplifi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34120" y="228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4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05880" y="235800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pare the Old vs. New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599840" y="2971800"/>
            <a:ext cx="65530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rder   Collins   Yaesu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fferenc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MD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32S-3   FT-450       in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QS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42 dB    -30 dB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53 dB    -37 dB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   -66 dB    -42 dB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dB  (Note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9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77 dB    -48 dB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88760" y="1752480"/>
            <a:ext cx="541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lose-in Signal and Spla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7440" y="571500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Filter vs. Adjacent Signal and IMD Spla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32004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gnal 5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5562720"/>
            <a:ext cx="4343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83120" y="464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334120"/>
            <a:ext cx="144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09680" y="3962520"/>
            <a:ext cx="3276720" cy="1600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809880" y="2819520"/>
            <a:ext cx="0" cy="2743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572000" y="4648320"/>
            <a:ext cx="7632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4648320"/>
            <a:ext cx="304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648320"/>
            <a:ext cx="7632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86200"/>
            <a:ext cx="106704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5029200"/>
            <a:ext cx="129564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60 dB, 7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Or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906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eady-State vs. Dynamic Splat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transceivers, in addition to normal IMD products, produce additional ALC-Induced splatter.  On CW the ALC can cause leading-edge key click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Cs could be driven hard in a 32S-3 or a T-4XC, for example, and not add to splat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modern rigs splatter more if the ALC is more than “tickled”, or induce clicks on CW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eague has chosen not to address this problem in its equipment reviews.  SM5BSZ &amp; I tried to no avai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How Many Roofing Filters are Needed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t depends on your mode of oper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For SSB, a single 15 kHz roofing filter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equate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, such as in the Icom 756 Pro II / Pro III with a close-in dynamic range of 75 dB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Other radios with similar performance: Drake R7 and TR7, IC-781, Collins 75S-3B/C, TS-930, FT-1000x, T-T Omni-V or VI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ould a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.7 kHz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roofing filter b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ette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, K3, Orion, Omni-VII or non-DSP Hilberling PT-8000A.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On CW, a sing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de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roofing filter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optimum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CW signals do not have IMD products. Strong adjacent signals do not have as much energy in the CW passband of your filter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W Signal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Does have a Bandwidth.  It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zero bandwidth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71920" y="871920"/>
            <a:ext cx="785736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ofing Filter BW on SS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1752480"/>
            <a:ext cx="7848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need more than one SSB BW Filte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t if Roofing &amp; DSP bandwidths are equ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selectivity up front is always desir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tter shape factor than depending of last IF onl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mni-VII the 455 kHz filters really help total selectivit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on &amp; K3 both offer a 1.8 kHz roofing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uces load on DSP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Just not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ramatic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mprovement as on C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 to CW sign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1905120"/>
            <a:ext cx="6781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have seen how width of an SSB signal &amp; its IMD products affects how close you can operate to another st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CW compa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close can we work to a strong adjacent CW signal?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043280" y="5101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is the Bandwidth of CW Signal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n channel signal = S9 + 40 dB (-33 dBm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ceiver = K3, 400 Hz 8-pole roofing + 400 Hz DSP Fil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mitter = Omni-VII with adjustable ris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desired signal 700 Hz away, continuous “dits” at 30 wp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ise time of Omni-VI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rength of CW sideband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gnal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9 + 40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3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7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5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6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5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2  dB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7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0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105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 dB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96080" y="403848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10 msec, “dits” at 30 WPM, Bandwidth -70 dB = +/- 450 Hz = 900 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848360" cy="43434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343400" y="57150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3 msec, “dits” at 30 WPM, Bandwidth -70 dB = +/- 750 Hz = 1500 Hz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86200" y="56386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28800"/>
            <a:ext cx="7086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9140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Range - measures the ability to hear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weak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s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present of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ear-by strong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s.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 20 kHz Dynamic Ran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easurement in a multi-conversion radi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ly tes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radio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ont en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first IF was 6 - 20 kHz wide, be it at 5 MHz, 9 MHz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45 - 70 MHz, the radio could overload in a CW pile up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 kHz dynamic range test show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hint of the probl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Solution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lace test signals close together so they pass thr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IF Filter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ext Amplifier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x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ose-in dynamic range numbers ar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WAYS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se than the wide-spaced numbers, for a radio with a single wide roofing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ison of 3 msec vs 10 msec rise ti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5715000" y="4876560"/>
            <a:ext cx="15228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4876920"/>
            <a:ext cx="15264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48769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5410080"/>
            <a:ext cx="0" cy="76212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44197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0 dB dif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ding edge of “dit”  3 &amp; 10 ms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810240" cy="4952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19112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480" y="1519920"/>
            <a:ext cx="7932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Many Poles Are Needed for a     narrow CW roofing fil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5909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on II 600 Hz 4-pole filter is - 30 dB @ +/-700 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on II 600 Hz 4-pole filter is – 50 dB @ +/-1200 Hz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ignal 2-kHz away is in the stop band of any filte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 CW signal is +/- 700 Hz wide at –7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on II uses 4-pole roofing fil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rwood has used a 6-pole filter for 32 yea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raft uses both 5 and 8-pole fil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see no significant advantage of one choice over anothe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e Data on the K3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752480"/>
            <a:ext cx="8001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ofing Filter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Ran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Limit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 H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1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50 H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8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ly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00 H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6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ly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00 H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5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ly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 Mostly = IMD audible, but noise predomina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047960" y="2114640"/>
            <a:ext cx="7199640" cy="49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From a Dynamic Range standpoint, reducing a strong adjacent signal 30 dB with a roofing filter is adequate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ll the roofing filters from Ten-Tec, Elecraft, or Sherwood do the job.  More poles have more insertion loss and cost more.  Its a trade-off.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ared to a 15 kHz roofing filter, a 500 Hz CW roofing filters will pass about 3% of those signals on to the later stages of the radio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You likely cannot work a weak signal 1 kHz from an S9 +40 dB CW signal with any radio with the best roofing filter due to the transmitted bandwidth of the interfering signal.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762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st the fa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92504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onclus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sters – DXers – Pileup operators need a good receiver for SSB and an even better receiver for C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herwood 600-Hz CW roofing filter fixed the R-4C in 1976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-Tec Orion put that concept in a commercial design in 2003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K3 now also offers multiple roofing filters in 2008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38080" y="1447920"/>
            <a:ext cx="792504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5 years of up conversion radios have generally offered a 20 kHz dynamic range in the 90s but a 2 kHz close-in dynamic range in the 70s. Typical degradation of dynamic range within the up conversion filter bandwidth is 25 dB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the buzz word is a 3-kHz roofing filter in up-conversion radios, though filter is often wider than spec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-7800 3-kHz filter is 5+ kHz wide, 6-kHz is 11+ kHz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T-2000 3-kHz filter is 7 kHz wide, and with my sample, it had 9 dB worse IMD than its 6 kHz filte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23880" y="1471680"/>
            <a:ext cx="640080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not possible to offer CW bandwidth Roofing Filters at VHF frequenc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all comes down to fractional bandwid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500-Hz filter at 5 MHz is like a 1-kHz filter at 10 MHz, or a 2 kHz filter at 20 MHz or a 4 kHz filter at 40 MHz &amp; an 8 kHz filter at 80 MH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Tdx-9000 IF = 40 MHz, 3-kHz reason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T-2000 IF = 70 MHz, “3 kHz” = 7 kHz w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on II and the K3 roofing filters are in the 8 to 9 MHz range, similar to the R-4C at 5 MHz.  Narrow filters are no problem here.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762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Narrow Can a VHF Filter B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2528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lex Rad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1828800"/>
            <a:ext cx="746784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of the few radios with no roofing filters at all is the Flex 5000A.   It basically converts everything to baseband (typically 11 kHz) and filters it in DSP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lex also performs very well with a completely different architecture, and with different tradeoff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need $500 to $1000 computer and likely a $200 LCD monitor, but not a slew of $100 roofing filt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147168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 dB or better @ 2 kH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76 Sherwood / Drake R-4C: 84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1 Ten-Tec Omni-VI+: 8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3 Icom IC-7800: 8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3 Ten-Tec Orion I: 93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5 Ten-Tec Orion II: 95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7 Flex 5000A: 96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7 Ten-Tec Omni-VII: 8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8 Elecraft K3: 95 to101 dB, depending on roofing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DSP filter bandwid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ynamic range is possible and needed for C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siderations in Choosing a Transceiver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676520"/>
            <a:ext cx="78487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gh close-in dynamic rang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  (copy S1 in crowded ban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 noise floo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                  (copy very weak signal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 phase noise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  (low noise on the Local Oscillato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 in-band spurious on both receive and transm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 IMD on SSB transmit, and low key clicks on CW transm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ffective SSB speech processor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more talk pow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ood receive and transmit audio quality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intelligibilit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mooth AGC for low fatigu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(noise doesn’t fill in spac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GC that doesn’t exaggerate impulse nois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(hangs up AG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ood ergonomics of controls and menus     (easy adjustmen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ood display that also shows important sett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4400" y="1447920"/>
            <a:ext cx="754380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lecraft K2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R-390A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5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7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Pro II / Pro I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75S-3B/C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2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7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2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IC-7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On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101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rake R-4C Stock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8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757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6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VR-5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762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radios for comparison, 2 kHz dynamic rang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1440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st Fatigue &amp; Audio Quality 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rgotten Sp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1752480"/>
            <a:ext cx="7696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transceivers made me tired in a long conte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udio was harsh on SSB and CW.  Met OEM Sp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EM spec = 2.5 watts @ 10% distortion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pp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makes audio harsh and fatiguing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Odd-Order Harmonics and / or IM Distor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ear / brain is very sensitive to these produc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product detector &amp; audio amp will meet 10% sp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u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e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aningles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armonic Distortion of a Good Am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2400" cy="5105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352680" y="152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ortion &lt; 0.3 % &amp; sounds f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4267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55 dB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d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480060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572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68 dB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d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 distortion of Good Am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077320" cy="5181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76720" y="1522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orti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.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% &amp; sounds f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44956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14800" y="4267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53 dB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t So Good Amp &amp; Odd Order &gt; Ev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276720" y="152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ortion &lt; 0.3 % but sounds b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781680" y="335232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05520" y="2819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65 dB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y too much IM Distortion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429000" y="152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% distortion but sounds terrible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886200" y="34286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40 dB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der IM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Challenge = Get OEMs to Listen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18288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a 24 hour or 48 hour contest, you need every ed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Dynamic  Range Recei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d Speech Processor on SS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g Tower and Good Antennas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t Your Brain Can Get “Fried” due to operator fatig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d audio can be a factor in that fatigu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57360" cy="16286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222280" y="2084400"/>
            <a:ext cx="576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herwood Engineering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38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sherwood-engineering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51814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NC0B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4400" y="900720"/>
            <a:ext cx="825660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2 Numbers are Most Important for a CW Contester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ise Floor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ose-in Dynamic Range  (DR3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(Noise floor need to calculate DR3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18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8600" y="1676520"/>
            <a:ext cx="7391520" cy="228600"/>
            <a:chOff x="228600" y="1676520"/>
            <a:chExt cx="7391520" cy="228600"/>
          </a:xfrm>
        </p:grpSpPr>
        <p:sp>
          <p:nvSpPr>
            <p:cNvPr id="121" name=""/>
            <p:cNvSpPr/>
            <p:nvPr/>
          </p:nvSpPr>
          <p:spPr>
            <a:xfrm>
              <a:off x="609480" y="16765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28600" y="16765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10000" y="65736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is Noise Floo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is a familiar number, normally applies to SS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Sensitivity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10 dB Signal + Noise / Noise (10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Noise Floor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3 dB Signal + Noise / Noise  (3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can be measured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ter bandwidth, CW or SSB, for example, and is bandwidth depend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gue normally only publishes noise floor for a CW bandwidth, typically 500 Hz CW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600200"/>
            <a:ext cx="830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762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Third Order IM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19320" y="2057400"/>
            <a:ext cx="7619760" cy="4191120"/>
            <a:chOff x="1219320" y="2057400"/>
            <a:chExt cx="7619760" cy="4191120"/>
          </a:xfrm>
        </p:grpSpPr>
        <p:sp>
          <p:nvSpPr>
            <p:cNvPr id="128" name=""/>
            <p:cNvSpPr/>
            <p:nvPr/>
          </p:nvSpPr>
          <p:spPr>
            <a:xfrm>
              <a:off x="1219320" y="6248520"/>
              <a:ext cx="76197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124080" y="2057400"/>
              <a:ext cx="1752120" cy="4191120"/>
              <a:chOff x="3124080" y="2057400"/>
              <a:chExt cx="1752120" cy="4191120"/>
            </a:xfrm>
          </p:grpSpPr>
          <p:sp>
            <p:nvSpPr>
              <p:cNvPr id="130" name=""/>
              <p:cNvSpPr/>
              <p:nvPr/>
            </p:nvSpPr>
            <p:spPr>
              <a:xfrm>
                <a:off x="31240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381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4038480" y="342900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952880" y="2057400"/>
              <a:ext cx="1752120" cy="4191120"/>
              <a:chOff x="4952880" y="2057400"/>
              <a:chExt cx="1752120" cy="4191120"/>
            </a:xfrm>
          </p:grpSpPr>
          <p:sp>
            <p:nvSpPr>
              <p:cNvPr id="134" name=""/>
              <p:cNvSpPr/>
              <p:nvPr/>
            </p:nvSpPr>
            <p:spPr>
              <a:xfrm>
                <a:off x="49528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69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676160" y="5181480"/>
              <a:ext cx="1066320" cy="1067040"/>
              <a:chOff x="1676160" y="5181480"/>
              <a:chExt cx="1066320" cy="1067040"/>
            </a:xfrm>
          </p:grpSpPr>
          <p:sp>
            <p:nvSpPr>
              <p:cNvPr id="137" name=""/>
              <p:cNvSpPr/>
              <p:nvPr/>
            </p:nvSpPr>
            <p:spPr>
              <a:xfrm>
                <a:off x="16761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093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2096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162560" y="5181480"/>
              <a:ext cx="1066320" cy="1067040"/>
              <a:chOff x="7162560" y="5181480"/>
              <a:chExt cx="1066320" cy="1067040"/>
            </a:xfrm>
          </p:grpSpPr>
          <p:sp>
            <p:nvSpPr>
              <p:cNvPr id="142" name=""/>
              <p:cNvSpPr/>
              <p:nvPr/>
            </p:nvSpPr>
            <p:spPr>
              <a:xfrm>
                <a:off x="76957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625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5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280" y="1371600"/>
            <a:ext cx="7391520" cy="228600"/>
            <a:chOff x="152280" y="1371600"/>
            <a:chExt cx="7391520" cy="228600"/>
          </a:xfrm>
        </p:grpSpPr>
        <p:sp>
          <p:nvSpPr>
            <p:cNvPr id="148" name=""/>
            <p:cNvSpPr/>
            <p:nvPr/>
          </p:nvSpPr>
          <p:spPr>
            <a:xfrm>
              <a:off x="533160" y="137160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52280" y="137160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038480" y="3809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What is Dynamic Rang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range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very strong signals to very weak signals that  the receiver can han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v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-Spaced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lose-in Dynam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 important for CW op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it less important for SSB operato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24400" y="367200"/>
            <a:ext cx="7799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ide &amp; Close Dynamic Ran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03200" y="20113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0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94040" y="198108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38080" y="2743200"/>
            <a:ext cx="4343400" cy="3342240"/>
            <a:chOff x="838080" y="2743200"/>
            <a:chExt cx="4343400" cy="3342240"/>
          </a:xfrm>
        </p:grpSpPr>
        <p:sp>
          <p:nvSpPr>
            <p:cNvPr id="159" name=""/>
            <p:cNvSpPr/>
            <p:nvPr/>
          </p:nvSpPr>
          <p:spPr>
            <a:xfrm>
              <a:off x="1140480" y="568656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6840" y="325116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0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0360" y="350532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1960" y="381024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3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19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5486400"/>
              <a:ext cx="4343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895480" y="4200480"/>
              <a:ext cx="2133720" cy="1295640"/>
              <a:chOff x="2895480" y="4200480"/>
              <a:chExt cx="2133720" cy="12956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895480" y="4200480"/>
                <a:ext cx="2133720" cy="1285920"/>
              </a:xfrm>
              <a:custGeom>
                <a:avLst/>
                <a:gdLst>
                  <a:gd name="textAreaLeft" fmla="*/ 561960 w 2133720"/>
                  <a:gd name="textAreaRight" fmla="*/ 1571760 w 2133720"/>
                  <a:gd name="textAreaTop" fmla="*/ 338760 h 1285920"/>
                  <a:gd name="textAreaBottom" fmla="*/ 947160 h 12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47200" y="45817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81280" y="4353120"/>
                <a:ext cx="762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62160" y="526752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9982080" y="54864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483880" y="2743200"/>
            <a:ext cx="3638880" cy="3370320"/>
            <a:chOff x="5483880" y="2743200"/>
            <a:chExt cx="3638880" cy="3370320"/>
          </a:xfrm>
        </p:grpSpPr>
        <p:sp>
          <p:nvSpPr>
            <p:cNvPr id="173" name=""/>
            <p:cNvSpPr/>
            <p:nvPr/>
          </p:nvSpPr>
          <p:spPr>
            <a:xfrm>
              <a:off x="5483880" y="571464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59960" y="32320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65760" y="5486040"/>
              <a:ext cx="2590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994360" y="4190760"/>
              <a:ext cx="2133360" cy="1294560"/>
              <a:chOff x="5994360" y="4190760"/>
              <a:chExt cx="2133360" cy="1294560"/>
            </a:xfrm>
          </p:grpSpPr>
          <p:sp>
            <p:nvSpPr>
              <p:cNvPr id="177" name=""/>
              <p:cNvSpPr/>
              <p:nvPr/>
            </p:nvSpPr>
            <p:spPr>
              <a:xfrm>
                <a:off x="6680160" y="441900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994360" y="4190760"/>
                <a:ext cx="2133360" cy="1285200"/>
              </a:xfrm>
              <a:custGeom>
                <a:avLst/>
                <a:gdLst>
                  <a:gd name="textAreaLeft" fmla="*/ 561960 w 2133360"/>
                  <a:gd name="textAreaRight" fmla="*/ 1571400 w 2133360"/>
                  <a:gd name="textAreaTop" fmla="*/ 338400 h 1285200"/>
                  <a:gd name="textAreaBottom" fmla="*/ 946800 h 128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46080" y="457164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80160" y="434304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37360" y="5257080"/>
                <a:ext cx="0" cy="228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80160" y="52570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83244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8508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86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04560" y="1219320"/>
            <a:ext cx="7391160" cy="228600"/>
            <a:chOff x="304560" y="1219320"/>
            <a:chExt cx="7391160" cy="228600"/>
          </a:xfrm>
        </p:grpSpPr>
        <p:sp>
          <p:nvSpPr>
            <p:cNvPr id="189" name=""/>
            <p:cNvSpPr/>
            <p:nvPr/>
          </p:nvSpPr>
          <p:spPr>
            <a:xfrm>
              <a:off x="685440" y="1219320"/>
              <a:ext cx="701028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4200" y="1219320"/>
              <a:ext cx="3934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6:48:08Z</dcterms:created>
  <dc:creator>Chris &amp; Terri Cantrell</dc:creator>
  <dc:description/>
  <dc:language>en-US</dc:language>
  <cp:lastModifiedBy>Terri &amp; Chris Cantrell</cp:lastModifiedBy>
  <dcterms:modified xsi:type="dcterms:W3CDTF">2008-07-31T02:27:39Z</dcterms:modified>
  <cp:revision>250</cp:revision>
  <dc:subject/>
  <dc:title>Radios Used in a Contest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